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6.wmf" ContentType="image/x-wmf"/>
  <Override PartName="/ppt/media/image43.gif" ContentType="image/gif"/>
  <Override PartName="/ppt/media/image20.jpeg" ContentType="image/jpeg"/>
  <Override PartName="/ppt/media/image7.wmf" ContentType="image/x-wmf"/>
  <Override PartName="/ppt/media/image30.jpeg" ContentType="image/jpeg"/>
  <Override PartName="/ppt/media/image9.wmf" ContentType="image/x-wmf"/>
  <Override PartName="/ppt/media/image33.jpeg" ContentType="image/jpeg"/>
  <Override PartName="/ppt/media/image5.wmf" ContentType="image/x-wmf"/>
  <Override PartName="/ppt/media/image27.jpeg" ContentType="image/jpeg"/>
  <Override PartName="/ppt/media/image11.wmf" ContentType="image/x-wmf"/>
  <Override PartName="/ppt/media/image34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40.jpeg" ContentType="image/jpeg"/>
  <Override PartName="/ppt/media/image13.jpeg" ContentType="image/jpeg"/>
  <Override PartName="/ppt/media/image4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F91-BDEC-4542-9328-45AB975C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8AB-2E24-40C5-BEBD-91A79CB7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E61-618B-424E-92D3-66F4E90D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002-39BE-4631-ABE9-AC8403B0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4BE-7E73-4FB2-AB9A-A5CB1C85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45E-6AC9-4F1B-9714-EC3F9754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7E5-1E25-41A3-91C7-56C5420E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4EC-A5FF-4BAD-8B0C-CD57808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40B-9205-4028-B1CF-C55828E5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0C3-5A08-4B38-AA48-EFD0565A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CFA-D37F-48ED-B491-A8DC96D3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3F4-93E9-478B-AC87-AD312E1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8378-C3A0-4DD7-A85C-4D940117A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8.jpeg"/><Relationship Id="rId8" Type="http://schemas.openxmlformats.org/officeDocument/2006/relationships/image" Target="../media/image10.wmf"/><Relationship Id="rId9" Type="http://schemas.openxmlformats.org/officeDocument/2006/relationships/image" Target="../media/image8.jpeg"/><Relationship Id="rId10" Type="http://schemas.openxmlformats.org/officeDocument/2006/relationships/hyperlink" Target="http://www.lutzdroessler.de/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533520"/>
            <a:ext cx="6400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auch-Expeditio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4648320"/>
            <a:ext cx="51814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" Bodensee "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3510000" cy="230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1825920" cy="1809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</p:pic>
      <p:pic>
        <p:nvPicPr>
          <p:cNvPr id="45" name="SCUBATAU" descr=""/>
          <p:cNvPicPr/>
          <p:nvPr/>
        </p:nvPicPr>
        <p:blipFill>
          <a:blip r:embed="rId4"/>
          <a:stretch/>
        </p:blipFill>
        <p:spPr>
          <a:xfrm>
            <a:off x="6781680" y="4883040"/>
            <a:ext cx="1946520" cy="137484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21422400">
            <a:off x="812880" y="4881600"/>
            <a:ext cx="749772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868686"/>
                  </a:outerShdw>
                </a:effectLst>
                <a:latin typeface="Comic Sans MS"/>
              </a:rPr>
              <a:t>Treppe seitlich vor den Radhäuser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0" name="Treppe_38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6858000" cy="46735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</p:spTree>
  </p:cSld>
  <p:transition advTm="8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WC_42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305920" cy="56624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sp>
        <p:nvSpPr>
          <p:cNvPr id="102" name=""/>
          <p:cNvSpPr txBox="1"/>
          <p:nvPr/>
        </p:nvSpPr>
        <p:spPr>
          <a:xfrm>
            <a:off x="1062000" y="905040"/>
            <a:ext cx="7223040" cy="1434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341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e6cd"/>
                </a:solidFill>
                <a:effectLst>
                  <a:outerShdw dist="89604" dir="2700000" blurRad="0" rotWithShape="0">
                    <a:srgbClr val="868686"/>
                  </a:outerShdw>
                </a:effectLst>
                <a:latin typeface="Comic Sans MS"/>
              </a:rPr>
              <a:t>Toilette des Schiffes</a:t>
            </a:r>
            <a:endParaRPr b="0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ffe6cd"/>
              </a:solidFill>
              <a:effectLst>
                <a:outerShdw dist="89604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25480" y="3962520"/>
            <a:ext cx="7683480" cy="19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e6cd"/>
                </a:solidFill>
                <a:effectLst>
                  <a:outerShdw dist="64600" dir="674838" blurRad="0" rotWithShape="0">
                    <a:srgbClr val="868686"/>
                  </a:outerShdw>
                </a:effectLst>
                <a:latin typeface="Comic Sans MS"/>
              </a:rPr>
              <a:t>Der Abgang liegt über dem Schaufelrad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e6cd"/>
              </a:solidFill>
              <a:effectLst>
                <a:outerShdw dist="64600" dir="674838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chaufelrad_60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54480" cy="28861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66ff33"/>
            </a:outerShdw>
          </a:effectLst>
        </p:spPr>
      </p:pic>
      <p:pic>
        <p:nvPicPr>
          <p:cNvPr id="105" name="Schaufelrad_61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4343400" cy="28717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ff33"/>
            </a:outerShdw>
          </a:effectLst>
        </p:spPr>
      </p:pic>
      <p:pic>
        <p:nvPicPr>
          <p:cNvPr id="106" name="Schaufelrad_59" descr=""/>
          <p:cNvPicPr/>
          <p:nvPr/>
        </p:nvPicPr>
        <p:blipFill>
          <a:blip r:embed="rId4"/>
          <a:stretch/>
        </p:blipFill>
        <p:spPr>
          <a:xfrm>
            <a:off x="1752480" y="2689200"/>
            <a:ext cx="5715000" cy="38768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sp>
        <p:nvSpPr>
          <p:cNvPr id="107" name=""/>
          <p:cNvSpPr txBox="1"/>
          <p:nvPr/>
        </p:nvSpPr>
        <p:spPr>
          <a:xfrm rot="20665800">
            <a:off x="0" y="2711520"/>
            <a:ext cx="913140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71785" dir="2700000" blurRad="0" rotWithShape="0">
                    <a:srgbClr val="808080"/>
                  </a:outerShdw>
                </a:effectLst>
                <a:latin typeface="Comic Sans MS"/>
              </a:rPr>
              <a:t>Schaufelräder im   Schlick versunk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71785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umpf-Christoph_62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8382240" cy="56862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sp>
        <p:nvSpPr>
          <p:cNvPr id="109" name=""/>
          <p:cNvSpPr txBox="1"/>
          <p:nvPr/>
        </p:nvSpPr>
        <p:spPr>
          <a:xfrm>
            <a:off x="2211480" y="4029120"/>
            <a:ext cx="612432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Blick ins Innere des Rumpfes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Winde_52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63160" cy="55897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66ff33"/>
            </a:outerShdw>
          </a:effectLst>
        </p:spPr>
      </p:pic>
      <p:sp>
        <p:nvSpPr>
          <p:cNvPr id="111" name=""/>
          <p:cNvSpPr txBox="1"/>
          <p:nvPr/>
        </p:nvSpPr>
        <p:spPr>
          <a:xfrm>
            <a:off x="4637160" y="3755880"/>
            <a:ext cx="3924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e6cd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Ankerwinde mit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e6cd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e6cd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Halterung der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e6cd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e6cd"/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Schiffsglocke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e6cd"/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2" name="Winde_54" descr=""/>
          <p:cNvPicPr/>
          <p:nvPr/>
        </p:nvPicPr>
        <p:blipFill>
          <a:blip r:embed="rId3"/>
          <a:stretch/>
        </p:blipFill>
        <p:spPr>
          <a:xfrm>
            <a:off x="228600" y="3887640"/>
            <a:ext cx="4038480" cy="27417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ff33"/>
            </a:outerShdw>
          </a:effectLst>
        </p:spPr>
      </p:pic>
    </p:spTree>
  </p:cSld>
  <p:transition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93800" y="5397480"/>
            <a:ext cx="5873760" cy="1249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95480" y="5613480"/>
            <a:ext cx="536256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53966" dir="2700000" blurRad="0" rotWithShape="0">
                    <a:srgbClr val="ffffff"/>
                  </a:outerShdw>
                </a:effectLst>
                <a:latin typeface="Comic Sans MS"/>
              </a:rPr>
              <a:t>Reste des Steuerstand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53966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5" name="Ruder_57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467840" cy="50641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66ff33"/>
            </a:outerShdw>
          </a:effectLst>
        </p:spPr>
      </p:pic>
    </p:spTree>
  </p:cSld>
  <p:transition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Heck_58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55814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sp>
        <p:nvSpPr>
          <p:cNvPr id="117" name=""/>
          <p:cNvSpPr txBox="1"/>
          <p:nvPr/>
        </p:nvSpPr>
        <p:spPr>
          <a:xfrm rot="21024600">
            <a:off x="2479680" y="4957560"/>
            <a:ext cx="641988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/>
                  </a:outerShdw>
                </a:effectLst>
                <a:latin typeface="Comic Sans MS"/>
              </a:rPr>
              <a:t>Heckreling der Jur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6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 rot="21121800">
            <a:off x="837720" y="5102280"/>
            <a:ext cx="5729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ückkehr nach Unter Uhldingen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1200240"/>
            <a:ext cx="2382840" cy="431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696600">
            <a:off x="6859080" y="1562040"/>
            <a:ext cx="15433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ur Kneip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1468200">
            <a:off x="6975000" y="2666880"/>
            <a:ext cx="100008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eko-Bi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2" name="Unser%20Tauchboot_67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5790960" cy="41259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</p:spTree>
  </p:cSld>
  <p:transition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rot="21298200">
            <a:off x="3198960" y="4302000"/>
            <a:ext cx="3124080" cy="11430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74" stAng="10800000" swAng="5400000"/>
                <a:lnTo>
                  <a:pt x="17056" y="3986"/>
                </a:lnTo>
                <a:lnTo>
                  <a:pt x="17056" y="0"/>
                </a:lnTo>
                <a:lnTo>
                  <a:pt x="21600" y="6079"/>
                </a:lnTo>
                <a:lnTo>
                  <a:pt x="17056" y="12158"/>
                </a:lnTo>
                <a:lnTo>
                  <a:pt x="17056" y="8172"/>
                </a:lnTo>
                <a:lnTo>
                  <a:pt x="12427" y="8172"/>
                </a:lnTo>
                <a:arcTo wR="8241" hR="3988" stAng="16200000" swAng="-5400000"/>
                <a:lnTo>
                  <a:pt x="4186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3780000" cy="388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066680" y="533520"/>
            <a:ext cx="4724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07932" dir="2700000" blurRad="0" rotWithShape="0">
                    <a:srgbClr val="868686"/>
                  </a:outerShdw>
                </a:effectLst>
                <a:latin typeface="Comic Sans MS"/>
              </a:rPr>
              <a:t>Präsentiert von 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07932" dir="27000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"/>
          <p:cNvSpPr txBox="1"/>
          <p:nvPr/>
        </p:nvSpPr>
        <p:spPr>
          <a:xfrm rot="20800200">
            <a:off x="5409720" y="1219320"/>
            <a:ext cx="25844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3536435" blurRad="0" rotWithShape="0">
                    <a:srgbClr val="ffffff"/>
                  </a:outerShdw>
                </a:effectLst>
                <a:latin typeface="Edwardian Script ITC"/>
              </a:rPr>
              <a:t>Lutz Drößler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3536435" blurRad="0" rotWithShape="0">
                  <a:srgbClr val="ffffff"/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0492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049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Logo" descr=""/>
          <p:cNvPicPr/>
          <p:nvPr/>
        </p:nvPicPr>
        <p:blipFill>
          <a:blip r:embed="rId3"/>
          <a:stretch/>
        </p:blipFill>
        <p:spPr>
          <a:xfrm>
            <a:off x="6858000" y="3581280"/>
            <a:ext cx="1592280" cy="15145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10280" y="3429000"/>
            <a:ext cx="1590840" cy="173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439800">
            <a:off x="5410080" y="0"/>
            <a:ext cx="33130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2514600" cy="2057400"/>
          </a:xfrm>
          <a:prstGeom prst="cloudCallout">
            <a:avLst>
              <a:gd name="adj1" fmla="val 72032"/>
              <a:gd name="adj2" fmla="val 5408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38080" y="44928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8120" y="2286000"/>
            <a:ext cx="3276360" cy="1828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 rot="21437400">
            <a:off x="3736800" y="2893680"/>
            <a:ext cx="183060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 rot="21450000">
            <a:off x="3428640" y="2971800"/>
            <a:ext cx="263700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 rot="500400">
            <a:off x="5492520" y="4647960"/>
            <a:ext cx="3429000" cy="24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droess@server1.rz.uni-leipzig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droess@vlfbox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838080" y="3505320"/>
            <a:ext cx="1219320" cy="104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9" name="">
            <a:hlinkClick r:id="rId10"/>
          </p:cNvPr>
          <p:cNvSpPr/>
          <p:nvPr/>
        </p:nvSpPr>
        <p:spPr>
          <a:xfrm>
            <a:off x="2666880" y="4419720"/>
            <a:ext cx="3886200" cy="838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19520" y="4648320"/>
            <a:ext cx="3581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345924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809880" y="609480"/>
            <a:ext cx="4876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Die Show beginnt ..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540240"/>
            <a:ext cx="4525920" cy="3012840"/>
          </a:xfrm>
          <a:prstGeom prst="cloudCallout">
            <a:avLst>
              <a:gd name="adj1" fmla="val -51439"/>
              <a:gd name="adj2" fmla="val -5416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20508000">
            <a:off x="3571560" y="3968640"/>
            <a:ext cx="34480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. . .  mit d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isegruppe Spa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m September 1998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5" name="bo_bild_Namenszug_37" descr=""/>
          <p:cNvPicPr/>
          <p:nvPr/>
        </p:nvPicPr>
        <p:blipFill>
          <a:blip r:embed="rId4"/>
          <a:stretch/>
        </p:blipFill>
        <p:spPr>
          <a:xfrm>
            <a:off x="2743200" y="2743200"/>
            <a:ext cx="5715000" cy="38098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sp>
        <p:nvSpPr>
          <p:cNvPr id="66" name=""/>
          <p:cNvSpPr/>
          <p:nvPr/>
        </p:nvSpPr>
        <p:spPr>
          <a:xfrm>
            <a:off x="6948360" y="5486400"/>
            <a:ext cx="2195640" cy="866880"/>
          </a:xfrm>
          <a:custGeom>
            <a:avLst/>
            <a:gdLst>
              <a:gd name="textAreaLeft" fmla="*/ 343080 w 2195640"/>
              <a:gd name="textAreaRight" fmla="*/ 1921320 w 2195640"/>
              <a:gd name="textAreaTop" fmla="*/ 216720 h 866880"/>
              <a:gd name="textAreaBottom" fmla="*/ 650160 h 866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AMPFSCH" descr=""/>
          <p:cNvPicPr/>
          <p:nvPr/>
        </p:nvPicPr>
        <p:blipFill>
          <a:blip r:embed="rId2"/>
          <a:stretch/>
        </p:blipFill>
        <p:spPr>
          <a:xfrm>
            <a:off x="2217600" y="1930320"/>
            <a:ext cx="4708800" cy="2995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19320" y="0"/>
            <a:ext cx="7238880" cy="662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 rot="484200">
            <a:off x="2141280" y="1766880"/>
            <a:ext cx="4497120" cy="44845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1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ie " Jura " ist ein alter Raddampfer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aus Holz . 1864 wurde sie im Nebe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gerammt und sank in eine Tief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n ca. 36 bis 38 m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90484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1590600">
            <a:off x="761760" y="533520"/>
            <a:ext cx="10573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ach Haus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862800">
            <a:off x="1447920" y="990360"/>
            <a:ext cx="110484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ur Knei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1350600">
            <a:off x="1371240" y="2133720"/>
            <a:ext cx="13525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um Ha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519360" y="2133720"/>
            <a:ext cx="176076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81480" y="4038480"/>
            <a:ext cx="3467160" cy="18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/>
                  </a:outerShdw>
                </a:effectLst>
                <a:latin typeface="Comic Sans MS"/>
              </a:rPr>
              <a:t>Abfahrt von</a:t>
            </a:r>
            <a:endParaRPr b="0" lang="en-US" sz="2400" spc="1" strike="noStrike">
              <a:ln w="936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/>
                  </a:outerShdw>
                </a:effectLst>
                <a:latin typeface="Comic Sans MS"/>
              </a:rPr>
              <a:t>Unter Uhldingen</a:t>
            </a:r>
            <a:endParaRPr b="0" lang="en-US" sz="2400" spc="1" strike="noStrike">
              <a:ln w="936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6" name="Hafen-Bootsbeladung_66" descr=""/>
          <p:cNvPicPr/>
          <p:nvPr/>
        </p:nvPicPr>
        <p:blipFill>
          <a:blip r:embed="rId4"/>
          <a:srcRect l="4717" t="0" r="0" b="0"/>
          <a:stretch/>
        </p:blipFill>
        <p:spPr>
          <a:xfrm>
            <a:off x="2971800" y="2133720"/>
            <a:ext cx="5931000" cy="42228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</p:spTree>
  </p:cSld>
  <p:transition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5181480"/>
            <a:ext cx="3276360" cy="13716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5551560"/>
            <a:ext cx="26323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Poller am Heck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79" name="Poller_56" descr=""/>
          <p:cNvPicPr/>
          <p:nvPr/>
        </p:nvPicPr>
        <p:blipFill>
          <a:blip r:embed="rId4"/>
          <a:stretch/>
        </p:blipFill>
        <p:spPr>
          <a:xfrm>
            <a:off x="3962520" y="3290760"/>
            <a:ext cx="4940280" cy="33512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pic>
        <p:nvPicPr>
          <p:cNvPr id="80" name="Poller_55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6248520" cy="422100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</p:spTree>
  </p:cSld>
  <p:transition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2222640"/>
            <a:ext cx="6473880" cy="1622160"/>
          </a:xfrm>
          <a:prstGeom prst="roundRect">
            <a:avLst>
              <a:gd name="adj" fmla="val 27204"/>
            </a:avLst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00120" y="2368440"/>
            <a:ext cx="62866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67517"/>
                    </a:gs>
                    <a:gs pos="100000">
                      <a:srgbClr val="99ff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die Kurbelwelle - gut erhalt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67517"/>
                  </a:gs>
                  <a:gs pos="100000">
                    <a:srgbClr val="99ff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Kurbelwelle_46" descr=""/>
          <p:cNvPicPr/>
          <p:nvPr/>
        </p:nvPicPr>
        <p:blipFill>
          <a:blip r:embed="rId2"/>
          <a:stretch/>
        </p:blipFill>
        <p:spPr>
          <a:xfrm>
            <a:off x="1143000" y="1106640"/>
            <a:ext cx="6934320" cy="46972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pic>
        <p:nvPicPr>
          <p:cNvPr id="84" name="Rad-Haus_43" descr=""/>
          <p:cNvPicPr/>
          <p:nvPr/>
        </p:nvPicPr>
        <p:blipFill>
          <a:blip r:embed="rId3"/>
          <a:stretch/>
        </p:blipFill>
        <p:spPr>
          <a:xfrm>
            <a:off x="228600" y="3774960"/>
            <a:ext cx="4114800" cy="27910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pic>
        <p:nvPicPr>
          <p:cNvPr id="85" name="Rad-Haus_44" descr=""/>
          <p:cNvPicPr/>
          <p:nvPr/>
        </p:nvPicPr>
        <p:blipFill>
          <a:blip r:embed="rId4"/>
          <a:stretch/>
        </p:blipFill>
        <p:spPr>
          <a:xfrm>
            <a:off x="4724280" y="304920"/>
            <a:ext cx="4178520" cy="28335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sp>
        <p:nvSpPr>
          <p:cNvPr id="86" name=""/>
          <p:cNvSpPr txBox="1"/>
          <p:nvPr/>
        </p:nvSpPr>
        <p:spPr>
          <a:xfrm rot="20808600">
            <a:off x="1112400" y="2453760"/>
            <a:ext cx="48196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Blick ins Radhau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essel_4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10080" cy="36781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pic>
        <p:nvPicPr>
          <p:cNvPr id="88" name="Schornstein_39" descr=""/>
          <p:cNvPicPr/>
          <p:nvPr/>
        </p:nvPicPr>
        <p:blipFill>
          <a:blip r:embed="rId3"/>
          <a:stretch/>
        </p:blipFill>
        <p:spPr>
          <a:xfrm>
            <a:off x="4572000" y="228600"/>
            <a:ext cx="4313160" cy="291456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pic>
        <p:nvPicPr>
          <p:cNvPr id="89" name="Schornstein_45" descr=""/>
          <p:cNvPicPr/>
          <p:nvPr/>
        </p:nvPicPr>
        <p:blipFill>
          <a:blip r:embed="rId4"/>
          <a:stretch/>
        </p:blipFill>
        <p:spPr>
          <a:xfrm>
            <a:off x="3581280" y="3033720"/>
            <a:ext cx="5321520" cy="36082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sp>
        <p:nvSpPr>
          <p:cNvPr id="90" name=""/>
          <p:cNvSpPr txBox="1"/>
          <p:nvPr/>
        </p:nvSpPr>
        <p:spPr>
          <a:xfrm>
            <a:off x="210960" y="4105440"/>
            <a:ext cx="3198960" cy="24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essel u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chornste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228600"/>
            <a:ext cx="4800600" cy="33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1259705"/>
                <a:gd name="adj2" fmla="val 7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der Dampfkess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m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Comic Sans MS"/>
              </a:rPr>
              <a:t>Feuerluk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 rot="21379200">
            <a:off x="4876560" y="304920"/>
            <a:ext cx="3882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vom Rost zerfressen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 rot="20742600">
            <a:off x="3881520" y="3408480"/>
            <a:ext cx="398628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... der umgeleg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Schornste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ug_49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330800" cy="293832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pic>
        <p:nvPicPr>
          <p:cNvPr id="95" name="Bug_50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343400" cy="294624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pic>
        <p:nvPicPr>
          <p:cNvPr id="96" name="Bug_Schnitz" descr=""/>
          <p:cNvPicPr/>
          <p:nvPr/>
        </p:nvPicPr>
        <p:blipFill>
          <a:blip r:embed="rId4"/>
          <a:stretch/>
        </p:blipFill>
        <p:spPr>
          <a:xfrm>
            <a:off x="2133720" y="2971800"/>
            <a:ext cx="5410080" cy="3662280"/>
          </a:xfrm>
          <a:prstGeom prst="rect">
            <a:avLst/>
          </a:prstGeom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66ff33"/>
            </a:outerShdw>
          </a:effectLst>
        </p:spPr>
      </p:pic>
      <p:sp>
        <p:nvSpPr>
          <p:cNvPr id="97" name=""/>
          <p:cNvSpPr txBox="1"/>
          <p:nvPr/>
        </p:nvSpPr>
        <p:spPr>
          <a:xfrm>
            <a:off x="3443400" y="1038240"/>
            <a:ext cx="18367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75b0d"/>
                  </a:outerShdw>
                </a:effectLst>
                <a:latin typeface="Comic Sans MS"/>
              </a:rPr>
              <a:t>Der Bug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79440" y="5170320"/>
            <a:ext cx="834372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e6cd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75b0d"/>
                  </a:outerShdw>
                </a:effectLst>
                <a:latin typeface="Comic Sans MS"/>
              </a:rPr>
              <a:t>Schnitzereien am Glüverbaum</a:t>
            </a:r>
            <a:endParaRPr b="0" lang="en-US" sz="2400" spc="1" strike="noStrike">
              <a:ln w="12600">
                <a:solidFill>
                  <a:srgbClr val="ffe6cd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7T22:12:15Z</dcterms:created>
  <dc:creator>Lutz Drößler</dc:creator>
  <dc:description/>
  <dc:language>en-US</dc:language>
  <cp:lastModifiedBy>Lutz Drößler</cp:lastModifiedBy>
  <dcterms:modified xsi:type="dcterms:W3CDTF">2002-01-17T20:07:38Z</dcterms:modified>
  <cp:revision>12</cp:revision>
  <dc:subject/>
  <dc:title>PowerPoint-Präsentation</dc:title>
</cp:coreProperties>
</file>