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3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1.gif" ContentType="image/gif"/>
  <Override PartName="/ppt/media/image75.jpeg" ContentType="image/jpeg"/>
  <Override PartName="/ppt/media/image24.jpeg" ContentType="image/jpeg"/>
  <Override PartName="/ppt/media/image50.jpeg" ContentType="image/jpeg"/>
  <Override PartName="/ppt/media/image2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51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47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81.wmf" ContentType="image/x-wmf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8.jpeg" ContentType="image/jpeg"/>
  <Override PartName="/ppt/media/image6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gif" ContentType="image/gif"/>
  <Override PartName="/ppt/media/image23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25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519-991B-4D34-8DA8-7C0796F9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639-E8B7-4C41-B799-74F98C49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000-5495-4D8E-98FE-6B4A48FF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522-1849-4602-A41C-0AF282D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D93-EF8A-4C4F-8AC1-BB025BEE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BE5-9B07-483A-9F47-6EAC8F1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FF1-6E36-435C-B920-0B62525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BFA-390E-4A08-9AB3-C42E01D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B21-2189-4B35-86A8-A181396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14D-E82B-42FE-8405-7033F57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DCB-FEF5-4928-A060-6A062D2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1B5-1E66-4B7E-A6E7-5B82ADE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C24A-48E6-4C3C-8970-28136FC5A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8.jpeg"/><Relationship Id="rId3" Type="http://schemas.openxmlformats.org/officeDocument/2006/relationships/image" Target="../media/image5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8.jpeg"/><Relationship Id="rId8" Type="http://schemas.openxmlformats.org/officeDocument/2006/relationships/image" Target="../media/image10.wmf"/><Relationship Id="rId9" Type="http://schemas.openxmlformats.org/officeDocument/2006/relationships/image" Target="../media/image8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wmf"/><Relationship Id="rId3" Type="http://schemas.openxmlformats.org/officeDocument/2006/relationships/image" Target="../media/image8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UBA" descr=""/>
          <p:cNvPicPr/>
          <p:nvPr/>
        </p:nvPicPr>
        <p:blipFill>
          <a:blip r:embed="rId2"/>
          <a:stretch/>
        </p:blipFill>
        <p:spPr>
          <a:xfrm>
            <a:off x="5105520" y="4543560"/>
            <a:ext cx="3809880" cy="135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304920" y="228600"/>
            <a:ext cx="1990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3300"/>
                  </a:outerShdw>
                </a:effectLst>
                <a:latin typeface="Comic Sans MS"/>
              </a:rPr>
              <a:t>Dez.199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effectLst>
                <a:outerShdw dist="17819" dir="2700000" blurRad="0" rotWithShape="0">
                  <a:srgbClr val="ff33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800600"/>
            <a:ext cx="76176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ad-Tour-Botanischer-Garten_2" descr=""/>
          <p:cNvPicPr/>
          <p:nvPr/>
        </p:nvPicPr>
        <p:blipFill>
          <a:blip r:embed="rId3"/>
          <a:stretch/>
        </p:blipFill>
        <p:spPr>
          <a:xfrm>
            <a:off x="4952880" y="4013280"/>
            <a:ext cx="3886200" cy="2590560"/>
          </a:xfrm>
          <a:prstGeom prst="rect">
            <a:avLst/>
          </a:prstGeom>
          <a:ln w="38160">
            <a:solidFill>
              <a:srgbClr val="ff3300"/>
            </a:solidFill>
            <a:miter/>
          </a:ln>
          <a:effectLst>
            <a:outerShdw dist="89604" dir="2700000" blurRad="0" rotWithShape="0">
              <a:srgbClr val="3333ff"/>
            </a:outerShdw>
          </a:effectLst>
        </p:spPr>
      </p:pic>
      <p:sp>
        <p:nvSpPr>
          <p:cNvPr id="45" name=""/>
          <p:cNvSpPr txBox="1"/>
          <p:nvPr/>
        </p:nvSpPr>
        <p:spPr>
          <a:xfrm>
            <a:off x="228600" y="4495680"/>
            <a:ext cx="502920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ffffcc"/>
                  </a:outerShdw>
                </a:effectLst>
                <a:latin typeface="Comic Sans MS"/>
              </a:rPr>
              <a:t>Cub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86400" y="228600"/>
            <a:ext cx="2895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cc"/>
                  </a:outerShdw>
                </a:effectLst>
                <a:latin typeface="Comic Sans MS"/>
              </a:rPr>
              <a:t>Reis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266688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71785" dir="2700000" blurRad="0" rotWithShape="0">
                    <a:srgbClr val="ffffcc"/>
                  </a:outerShdw>
                </a:effectLst>
                <a:latin typeface="Comic Sans MS"/>
              </a:rPr>
              <a:t>na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71785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5867280"/>
            <a:ext cx="40384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Karibisches Me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weisse-Gorgonie-Birgit_1" descr=""/>
          <p:cNvPicPr/>
          <p:nvPr/>
        </p:nvPicPr>
        <p:blipFill>
          <a:blip r:embed="rId4"/>
          <a:srcRect l="0" t="0" r="1923" b="1920"/>
          <a:stretch/>
        </p:blipFill>
        <p:spPr>
          <a:xfrm>
            <a:off x="4952880" y="4038480"/>
            <a:ext cx="3886200" cy="25909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</p:spTree>
  </p:cSld>
  <p:transition advTm="1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00200" y="1295280"/>
            <a:ext cx="57913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Schweinebucht -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Höhlentauch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3" name="Einstieg2-Hoehlentauchen_3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4" name="Einstieg2-Hoehlentauchen_2" descr=""/>
          <p:cNvPicPr/>
          <p:nvPr/>
        </p:nvPicPr>
        <p:blipFill>
          <a:blip r:embed="rId3"/>
          <a:srcRect l="0" t="0" r="0" b="7998"/>
          <a:stretch/>
        </p:blipFill>
        <p:spPr>
          <a:xfrm>
            <a:off x="2819520" y="380880"/>
            <a:ext cx="3809880" cy="5257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2057400" y="4114800"/>
            <a:ext cx="4952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7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871b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El Brinc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871b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6" name="Einstieg-Hoehlentauchen_1" descr=""/>
          <p:cNvPicPr/>
          <p:nvPr/>
        </p:nvPicPr>
        <p:blipFill>
          <a:blip r:embed="rId4"/>
          <a:stretch/>
        </p:blipFill>
        <p:spPr>
          <a:xfrm flipH="1" rot="10800000">
            <a:off x="838080" y="685440"/>
            <a:ext cx="7620120" cy="4952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7" name="Einstieg-Hoehlentauchen_2" descr=""/>
          <p:cNvPicPr/>
          <p:nvPr/>
        </p:nvPicPr>
        <p:blipFill>
          <a:blip r:embed="rId5"/>
          <a:stretch/>
        </p:blipFill>
        <p:spPr>
          <a:xfrm>
            <a:off x="838080" y="1066680"/>
            <a:ext cx="762012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8" name="Einstieg-Hoehlentauchen_3" descr=""/>
          <p:cNvPicPr/>
          <p:nvPr/>
        </p:nvPicPr>
        <p:blipFill>
          <a:blip r:embed="rId6"/>
          <a:stretch/>
        </p:blipFill>
        <p:spPr>
          <a:xfrm>
            <a:off x="4648320" y="380880"/>
            <a:ext cx="3809880" cy="5715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9" name="Einstieg-Hoehlentauchen_4" descr=""/>
          <p:cNvPicPr/>
          <p:nvPr/>
        </p:nvPicPr>
        <p:blipFill>
          <a:blip r:embed="rId7"/>
          <a:stretch/>
        </p:blipFill>
        <p:spPr>
          <a:xfrm>
            <a:off x="838080" y="380880"/>
            <a:ext cx="3733920" cy="5715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2209680" y="5105520"/>
            <a:ext cx="4724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711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Ilona-Cav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711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8080" y="990720"/>
            <a:ext cx="76201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Tauchen im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Karibischen Meer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2" name="Scuba1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2133360" cy="12016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Faecherkoralle_1" descr="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4" name="Faecherkoralle_2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5" name="Faecherkoralle_3" descr=""/>
          <p:cNvPicPr/>
          <p:nvPr/>
        </p:nvPicPr>
        <p:blipFill>
          <a:blip r:embed="rId4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Faecherkoralle-Birgit_1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7" name="Faecherkoralle-Birgit_3" descr=""/>
          <p:cNvPicPr/>
          <p:nvPr/>
        </p:nvPicPr>
        <p:blipFill>
          <a:blip r:embed="rId6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8" name="Faecherkoralle-Christoph-Video_1" descr=""/>
          <p:cNvPicPr/>
          <p:nvPr/>
        </p:nvPicPr>
        <p:blipFill>
          <a:blip r:embed="rId7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9" name=""/>
          <p:cNvSpPr txBox="1"/>
          <p:nvPr/>
        </p:nvSpPr>
        <p:spPr>
          <a:xfrm>
            <a:off x="380880" y="46483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riesige Fächerkorall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3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elbe-Gorgonie-Piesi_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1" name="gelbe-Gorgonie_1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2" name="tote-Gorgonie_1" descr=""/>
          <p:cNvPicPr/>
          <p:nvPr/>
        </p:nvPicPr>
        <p:blipFill>
          <a:blip r:embed="rId4"/>
          <a:stretch/>
        </p:blipFill>
        <p:spPr>
          <a:xfrm>
            <a:off x="1295280" y="15238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 rot="21344400">
            <a:off x="2211480" y="4619160"/>
            <a:ext cx="63817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8d8b2"/>
                    </a:gs>
                    <a:gs pos="100000">
                      <a:srgbClr val="72635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ffcc"/>
                  </a:outerShdw>
                </a:effectLst>
                <a:latin typeface="Comic Sans MS"/>
              </a:rPr>
              <a:t>gelbe Gorgonie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8d8b2"/>
                  </a:gs>
                  <a:gs pos="100000">
                    <a:srgbClr val="726352"/>
                  </a:gs>
                </a:gsLst>
                <a:lin ang="5400000"/>
              </a:gradFill>
              <a:effectLst>
                <a:outerShdw dist="40186" dir="109635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Goldschwamm_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400800" cy="4267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5" name="Goldschwamm-Faecherkoralle_1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6400800" cy="4267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 rot="1608000">
            <a:off x="-34560" y="3800160"/>
            <a:ext cx="63244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e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Röhren-Schwäm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e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Kelchschwamm_1" descr=""/>
          <p:cNvPicPr/>
          <p:nvPr/>
        </p:nvPicPr>
        <p:blipFill>
          <a:blip r:embed="rId2"/>
          <a:stretch/>
        </p:blipFill>
        <p:spPr>
          <a:xfrm>
            <a:off x="3809880" y="228600"/>
            <a:ext cx="5105520" cy="3403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8" name="Haarstern-in-Kelchschwamm_1" descr=""/>
          <p:cNvPicPr/>
          <p:nvPr/>
        </p:nvPicPr>
        <p:blipFill>
          <a:blip r:embed="rId3"/>
          <a:stretch/>
        </p:blipFill>
        <p:spPr>
          <a:xfrm>
            <a:off x="3809880" y="3251160"/>
            <a:ext cx="5105520" cy="3403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9" name="Gorgonien-Juergen_1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800600" cy="3200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457200" y="5334120"/>
            <a:ext cx="37051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chwarze Korall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 rot="394200">
            <a:off x="1747440" y="324000"/>
            <a:ext cx="3733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8e1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Schwamm . . 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8e1c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 rot="20923800">
            <a:off x="4800600" y="3429000"/>
            <a:ext cx="40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b1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. . . mit Haars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b1f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Hirnkoralle_1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5715000" cy="3809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4" name="Hirnkoralle-Falterfische_1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5715000" cy="3809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4952880" y="2286000"/>
            <a:ext cx="2943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71b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ffffcc"/>
                  </a:outerShdw>
                </a:effectLst>
                <a:latin typeface="Comic Sans MS"/>
              </a:rPr>
              <a:t>Hirn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71b00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40186" dir="109635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62520" y="4952880"/>
            <a:ext cx="434340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Koralle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108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weisse-Gorgonie-Piesi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3200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8" name="weisse-Gorgonie-Birgit_1" descr=""/>
          <p:cNvPicPr/>
          <p:nvPr/>
        </p:nvPicPr>
        <p:blipFill>
          <a:blip r:embed="rId3"/>
          <a:stretch/>
        </p:blipFill>
        <p:spPr>
          <a:xfrm>
            <a:off x="228600" y="3454560"/>
            <a:ext cx="4800600" cy="3200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49" name="w-Gorgonien-Faecherkoralle_1" descr=""/>
          <p:cNvPicPr/>
          <p:nvPr/>
        </p:nvPicPr>
        <p:blipFill>
          <a:blip r:embed="rId4"/>
          <a:stretch/>
        </p:blipFill>
        <p:spPr>
          <a:xfrm>
            <a:off x="4267080" y="1447920"/>
            <a:ext cx="4648320" cy="3098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 rot="693600">
            <a:off x="651960" y="2817360"/>
            <a:ext cx="756792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weiße Gorgonie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auchbasis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762120" y="4114800"/>
            <a:ext cx="533376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2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Fülls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22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3" name="Schlauchboot_1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1371600" y="4952880"/>
            <a:ext cx="49719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2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b2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chlauchboot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b2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b2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usfahr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b2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5" name="Tauchboot_1" descr=""/>
          <p:cNvPicPr/>
          <p:nvPr/>
        </p:nvPicPr>
        <p:blipFill>
          <a:blip r:embed="rId4"/>
          <a:stretch/>
        </p:blipFill>
        <p:spPr>
          <a:xfrm>
            <a:off x="1295280" y="15238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2133720" y="2209680"/>
            <a:ext cx="761976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916089"/>
                <a:gd name="adj2" fmla="val 66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51d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as groß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51d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51d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Tauchboo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51d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insiedler_1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58" name=""/>
          <p:cNvSpPr txBox="1"/>
          <p:nvPr/>
        </p:nvSpPr>
        <p:spPr>
          <a:xfrm>
            <a:off x="1219320" y="2209680"/>
            <a:ext cx="662940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9868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871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Einsiedler-Kreb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871b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9" name="Trompetenfisch_1" descr=""/>
          <p:cNvPicPr/>
          <p:nvPr/>
        </p:nvPicPr>
        <p:blipFill>
          <a:blip r:embed="rId3"/>
          <a:srcRect l="0" t="0" r="1002" b="0"/>
          <a:stretch/>
        </p:blipFill>
        <p:spPr>
          <a:xfrm>
            <a:off x="838080" y="8380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 rot="20332800">
            <a:off x="2665440" y="3895560"/>
            <a:ext cx="541008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22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Flötenfisc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22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1" name="Kugelfisch-Christoph-Video_1" descr=""/>
          <p:cNvPicPr/>
          <p:nvPr/>
        </p:nvPicPr>
        <p:blipFill>
          <a:blip r:embed="rId4"/>
          <a:srcRect l="1031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2" name=""/>
          <p:cNvSpPr txBox="1"/>
          <p:nvPr/>
        </p:nvSpPr>
        <p:spPr>
          <a:xfrm rot="353400">
            <a:off x="767880" y="5121360"/>
            <a:ext cx="746784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921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verärgerter Igelfisc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921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1871640" cy="180828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ffffcc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590840" cy="1733760"/>
          </a:xfrm>
          <a:prstGeom prst="rect">
            <a:avLst/>
          </a:prstGeom>
          <a:ln w="0">
            <a:noFill/>
          </a:ln>
          <a:effectLst>
            <a:outerShdw dist="91658" dir="2017659" blurRad="0" rotWithShape="0">
              <a:srgbClr val="ffffcc"/>
            </a:outerShdw>
          </a:effectLst>
        </p:spPr>
      </p:pic>
      <p:sp>
        <p:nvSpPr>
          <p:cNvPr id="52" name=""/>
          <p:cNvSpPr/>
          <p:nvPr/>
        </p:nvSpPr>
        <p:spPr>
          <a:xfrm>
            <a:off x="22860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 rot="439800">
            <a:off x="5097600" y="-1080"/>
            <a:ext cx="361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2514600" cy="2057400"/>
          </a:xfrm>
          <a:prstGeom prst="cloudCallout">
            <a:avLst>
              <a:gd name="adj1" fmla="val 67046"/>
              <a:gd name="adj2" fmla="val 4884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38080" y="449280"/>
            <a:ext cx="1600200" cy="14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56" name=""/>
          <p:cNvSpPr/>
          <p:nvPr/>
        </p:nvSpPr>
        <p:spPr>
          <a:xfrm>
            <a:off x="3200400" y="198108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21437400">
            <a:off x="3886200" y="2590560"/>
            <a:ext cx="183024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 rot="21450000">
            <a:off x="3657240" y="2666880"/>
            <a:ext cx="263700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 rot="500400">
            <a:off x="5279760" y="4575240"/>
            <a:ext cx="36338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3808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3" name="">
            <a:hlinkClick r:id="rId10"/>
          </p:cNvPr>
          <p:cNvSpPr/>
          <p:nvPr/>
        </p:nvSpPr>
        <p:spPr>
          <a:xfrm>
            <a:off x="2666880" y="4343400"/>
            <a:ext cx="3886200" cy="838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19520" y="45720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 rot="21349200">
            <a:off x="1371600" y="1904760"/>
            <a:ext cx="6858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ffcc"/>
                  </a:outerShdw>
                </a:effectLst>
                <a:latin typeface="Comic Sans MS"/>
              </a:rPr>
              <a:t>Wrack-Tauch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effectLst>
                <a:outerShdw dist="40186" dir="109635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4" name="Wrack-Namenszug-SanFuegos_1" descr=""/>
          <p:cNvPicPr/>
          <p:nvPr/>
        </p:nvPicPr>
        <p:blipFill>
          <a:blip r:embed="rId2"/>
          <a:srcRect l="0" t="0" r="1002" b="0"/>
          <a:stretch/>
        </p:blipFill>
        <p:spPr>
          <a:xfrm>
            <a:off x="914400" y="304920"/>
            <a:ext cx="754380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5" name="Wrack-Reeling_1" descr=""/>
          <p:cNvPicPr/>
          <p:nvPr/>
        </p:nvPicPr>
        <p:blipFill>
          <a:blip r:embed="rId3"/>
          <a:srcRect l="1002" t="0" r="0" b="0"/>
          <a:stretch/>
        </p:blipFill>
        <p:spPr>
          <a:xfrm>
            <a:off x="914400" y="685800"/>
            <a:ext cx="754380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 rot="1491000">
            <a:off x="1239840" y="3176280"/>
            <a:ext cx="614052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ie Reel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7" name="Wrack-Poller-Birgit_1" descr=""/>
          <p:cNvPicPr/>
          <p:nvPr/>
        </p:nvPicPr>
        <p:blipFill>
          <a:blip r:embed="rId4"/>
          <a:srcRect l="0" t="1502" r="1002" b="0"/>
          <a:stretch/>
        </p:blipFill>
        <p:spPr>
          <a:xfrm>
            <a:off x="914400" y="1066680"/>
            <a:ext cx="7543800" cy="5004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8" name="Wrack-Piesi_1" descr=""/>
          <p:cNvPicPr/>
          <p:nvPr/>
        </p:nvPicPr>
        <p:blipFill>
          <a:blip r:embed="rId5"/>
          <a:srcRect l="0" t="0" r="1002" b="0"/>
          <a:stretch/>
        </p:blipFill>
        <p:spPr>
          <a:xfrm>
            <a:off x="914400" y="1523880"/>
            <a:ext cx="754380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457200" y="4724280"/>
            <a:ext cx="8381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2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ie ,,Sanfuegos"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22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Wrack-Birgit_1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2844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71" name="Wrack-Birgit_2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67080" cy="2844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72" name="Wrack-Birgit_3" descr=""/>
          <p:cNvPicPr/>
          <p:nvPr/>
        </p:nvPicPr>
        <p:blipFill>
          <a:blip r:embed="rId4"/>
          <a:stretch/>
        </p:blipFill>
        <p:spPr>
          <a:xfrm>
            <a:off x="4648320" y="3784680"/>
            <a:ext cx="4267080" cy="2844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73" name="Wrack-Luke-Birgit_2" descr=""/>
          <p:cNvPicPr/>
          <p:nvPr/>
        </p:nvPicPr>
        <p:blipFill>
          <a:blip r:embed="rId5"/>
          <a:stretch/>
        </p:blipFill>
        <p:spPr>
          <a:xfrm>
            <a:off x="228600" y="3809880"/>
            <a:ext cx="4267080" cy="2845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74" name=""/>
          <p:cNvSpPr txBox="1"/>
          <p:nvPr/>
        </p:nvSpPr>
        <p:spPr>
          <a:xfrm>
            <a:off x="2819520" y="2438280"/>
            <a:ext cx="3733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2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ie Brück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22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5" name="Wrack-Luke-Juergen_1" descr=""/>
          <p:cNvPicPr/>
          <p:nvPr/>
        </p:nvPicPr>
        <p:blipFill>
          <a:blip r:embed="rId6"/>
          <a:stretch/>
        </p:blipFill>
        <p:spPr>
          <a:xfrm>
            <a:off x="2743200" y="2209680"/>
            <a:ext cx="3886200" cy="2590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advTm="21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Wrack-Gorgonie_1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6705720" cy="44701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77" name=""/>
          <p:cNvSpPr txBox="1"/>
          <p:nvPr/>
        </p:nvSpPr>
        <p:spPr>
          <a:xfrm rot="773400">
            <a:off x="2057040" y="1752120"/>
            <a:ext cx="586728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er Rumpf - herrlich bewachse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8" name="Wrack-Guide_1" descr=""/>
          <p:cNvPicPr/>
          <p:nvPr/>
        </p:nvPicPr>
        <p:blipFill>
          <a:blip r:embed="rId3"/>
          <a:srcRect l="15491" t="0" r="2816" b="0"/>
          <a:stretch/>
        </p:blipFill>
        <p:spPr>
          <a:xfrm>
            <a:off x="228600" y="228600"/>
            <a:ext cx="4419720" cy="3606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79" name="Wrack-Luke-Birgit_1" descr=""/>
          <p:cNvPicPr/>
          <p:nvPr/>
        </p:nvPicPr>
        <p:blipFill>
          <a:blip r:embed="rId4"/>
          <a:srcRect l="7044" t="0" r="14083" b="0"/>
          <a:stretch/>
        </p:blipFill>
        <p:spPr>
          <a:xfrm>
            <a:off x="4648320" y="228600"/>
            <a:ext cx="4267080" cy="3606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286000" y="3657600"/>
            <a:ext cx="5029200" cy="1143000"/>
          </a:xfrm>
          <a:prstGeom prst="flowChartTerminator">
            <a:avLst/>
          </a:prstGeom>
          <a:gradFill rotWithShape="0">
            <a:gsLst>
              <a:gs pos="0">
                <a:srgbClr val="ffffcc"/>
              </a:gs>
              <a:gs pos="100000">
                <a:srgbClr val="79a15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43200" y="3886200"/>
            <a:ext cx="4133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Luke zum Ladera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Wrack-Schraube-Piesi_2" descr=""/>
          <p:cNvPicPr/>
          <p:nvPr/>
        </p:nvPicPr>
        <p:blipFill>
          <a:blip r:embed="rId2"/>
          <a:stretch/>
        </p:blipFill>
        <p:spPr>
          <a:xfrm>
            <a:off x="1371600" y="1270080"/>
            <a:ext cx="6324480" cy="4216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3" name="Wrack-Schraube-Piesi_1" descr=""/>
          <p:cNvPicPr/>
          <p:nvPr/>
        </p:nvPicPr>
        <p:blipFill>
          <a:blip r:embed="rId3"/>
          <a:srcRect l="0" t="0" r="16984" b="0"/>
          <a:stretch/>
        </p:blipFill>
        <p:spPr>
          <a:xfrm>
            <a:off x="228600" y="3962520"/>
            <a:ext cx="3352680" cy="2692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4" name="Wrack-Schraube-SanFuegos_1" descr=""/>
          <p:cNvPicPr/>
          <p:nvPr/>
        </p:nvPicPr>
        <p:blipFill>
          <a:blip r:embed="rId4"/>
          <a:srcRect l="16984" t="0" r="0" b="0"/>
          <a:stretch/>
        </p:blipFill>
        <p:spPr>
          <a:xfrm>
            <a:off x="5562720" y="228600"/>
            <a:ext cx="3352680" cy="2692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85" name=""/>
          <p:cNvSpPr txBox="1"/>
          <p:nvPr/>
        </p:nvSpPr>
        <p:spPr>
          <a:xfrm rot="905400">
            <a:off x="1142640" y="2641680"/>
            <a:ext cx="6854760" cy="10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2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Schiffsschraub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22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21298200">
            <a:off x="3198960" y="430200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780000" cy="3886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066680" y="5335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 rot="20800200">
            <a:off x="5409720" y="1219320"/>
            <a:ext cx="25844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Logo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1592280" cy="15145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vanna-Markt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10080" cy="3606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66" name="Havanna-ueber-den-Daechern_1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5410080" cy="36068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67" name="Havanna-Hinterhof_1" descr=""/>
          <p:cNvPicPr/>
          <p:nvPr/>
        </p:nvPicPr>
        <p:blipFill>
          <a:blip r:embed="rId4"/>
          <a:stretch/>
        </p:blipFill>
        <p:spPr>
          <a:xfrm>
            <a:off x="3505320" y="1143000"/>
            <a:ext cx="3657600" cy="54864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3276720" y="3200400"/>
            <a:ext cx="54864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Kids"/>
              </a:rPr>
              <a:t>. . . über den Däch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Kids"/>
              <a:ea typeface="Kid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380880"/>
            <a:ext cx="5181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cc"/>
                  </a:outerShdw>
                </a:effectLst>
                <a:latin typeface="Comic Sans MS"/>
              </a:rPr>
              <a:t>Markt in der Altstad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Havanna-Hauselektrik_1" descr=""/>
          <p:cNvPicPr/>
          <p:nvPr/>
        </p:nvPicPr>
        <p:blipFill>
          <a:blip r:embed="rId5"/>
          <a:stretch/>
        </p:blipFill>
        <p:spPr>
          <a:xfrm>
            <a:off x="1523880" y="914400"/>
            <a:ext cx="6705720" cy="4470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2971800" y="2895480"/>
            <a:ext cx="4419720" cy="24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921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cc"/>
                  </a:outerShdw>
                </a:effectLst>
                <a:latin typeface="Comic Sans MS"/>
              </a:rPr>
              <a:t>typisch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921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53966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921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cc"/>
                  </a:outerShdw>
                </a:effectLst>
                <a:latin typeface="Comic Sans MS"/>
              </a:rPr>
              <a:t>Elektro-Verteil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921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53966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04920"/>
            <a:ext cx="8686800" cy="5486400"/>
          </a:xfrm>
          <a:prstGeom prst="cloudCallout">
            <a:avLst>
              <a:gd name="adj1" fmla="val -48444"/>
              <a:gd name="adj2" fmla="val 61749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9529" dir="1922513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 rot="20881800">
            <a:off x="1574280" y="1227240"/>
            <a:ext cx="6654960" cy="31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b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das i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b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b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Havanna . . 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b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Unterkunft_1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 rot="227400">
            <a:off x="1143000" y="3352320"/>
            <a:ext cx="6934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5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5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5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Rancho Lu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5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50000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ffffcc"/>
                  </a:outerShdw>
                </a:effectLst>
                <a:latin typeface="Comic Sans MS"/>
              </a:rPr>
              <a:t>Unsere Unterkunf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50000"/>
                  </a:gs>
                </a:gsLst>
                <a:lin ang="5400000"/>
              </a:gradFill>
              <a:effectLst>
                <a:outerShdw dist="63504" dir="221609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Unterkunft-Dusche_1" descr=""/>
          <p:cNvPicPr/>
          <p:nvPr/>
        </p:nvPicPr>
        <p:blipFill>
          <a:blip r:embed="rId3"/>
          <a:srcRect l="0" t="0" r="0" b="25332"/>
          <a:stretch/>
        </p:blipFill>
        <p:spPr>
          <a:xfrm>
            <a:off x="2362320" y="457200"/>
            <a:ext cx="4559040" cy="5105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7819" dir="2700000" blurRad="0" rotWithShape="0">
              <a:srgbClr val="ffffcc"/>
            </a:outerShdw>
          </a:effectLst>
        </p:spPr>
      </p:pic>
      <p:sp>
        <p:nvSpPr>
          <p:cNvPr id="77" name=""/>
          <p:cNvSpPr txBox="1"/>
          <p:nvPr/>
        </p:nvSpPr>
        <p:spPr>
          <a:xfrm rot="20548800">
            <a:off x="307440" y="337680"/>
            <a:ext cx="814572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280800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ie Tauchsieder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280800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280800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Heiss-Wasser-Dusch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280800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4038480"/>
            <a:ext cx="3276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5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mit Licht . . 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95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20370600">
            <a:off x="1288800" y="1649160"/>
            <a:ext cx="7535880" cy="22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64600" dir="674838" blurRad="0" rotWithShape="0">
                    <a:srgbClr val="ffffcc"/>
                  </a:outerShdw>
                </a:effectLst>
                <a:latin typeface="Comic Sans MS"/>
              </a:rPr>
              <a:t>der Sonnenaufgang . . 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64600" dir="67483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0" name="Strand-Christoph-Video_1" descr=""/>
          <p:cNvPicPr/>
          <p:nvPr/>
        </p:nvPicPr>
        <p:blipFill>
          <a:blip r:embed="rId2"/>
          <a:srcRect l="5457" t="4543" r="5457" b="6817"/>
          <a:stretch/>
        </p:blipFill>
        <p:spPr>
          <a:xfrm>
            <a:off x="1371600" y="380880"/>
            <a:ext cx="7467480" cy="4953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81" name="Strand-Sonnenaufgang_1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572000" cy="30481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advTm="1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76520" y="2133720"/>
            <a:ext cx="5943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b023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ffffcc"/>
                  </a:outerShdw>
                </a:effectLst>
                <a:latin typeface="Comic Sans MS"/>
              </a:rPr>
              <a:t>Radtour 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b023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64600" dir="67483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Rad-Tour-Strassenrennen_1" descr=""/>
          <p:cNvPicPr/>
          <p:nvPr/>
        </p:nvPicPr>
        <p:blipFill>
          <a:blip r:embed="rId2"/>
          <a:srcRect l="18935" t="7498" r="4772" b="16002"/>
          <a:stretch/>
        </p:blipFill>
        <p:spPr>
          <a:xfrm>
            <a:off x="685800" y="609480"/>
            <a:ext cx="7620120" cy="5094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4724280" y="685800"/>
            <a:ext cx="3448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70000"/>
                    </a:gs>
                    <a:gs pos="50000">
                      <a:srgbClr val="ff0000"/>
                    </a:gs>
                    <a:gs pos="100000">
                      <a:srgbClr val="87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Straßen-Renne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70000"/>
                  </a:gs>
                  <a:gs pos="50000">
                    <a:srgbClr val="ff0000"/>
                  </a:gs>
                  <a:gs pos="100000">
                    <a:srgbClr val="8700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Rad-Tour-Kreuzung_1" descr=""/>
          <p:cNvPicPr/>
          <p:nvPr/>
        </p:nvPicPr>
        <p:blipFill>
          <a:blip r:embed="rId3"/>
          <a:srcRect l="1002" t="0" r="0" b="496"/>
          <a:stretch/>
        </p:blipFill>
        <p:spPr>
          <a:xfrm>
            <a:off x="685800" y="609480"/>
            <a:ext cx="7620120" cy="51055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1143000" y="76212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a921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ffcc"/>
                  </a:outerShdw>
                </a:effectLst>
                <a:latin typeface="Comic Sans MS"/>
              </a:rPr>
              <a:t>wie nun weiter . . 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a92100"/>
                  </a:gs>
                </a:gsLst>
                <a:lin ang="5400000"/>
              </a:gradFill>
              <a:effectLst>
                <a:outerShdw dist="40186" dir="430364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Rad-Tour-Botanischer-Garten_2" descr=""/>
          <p:cNvPicPr/>
          <p:nvPr/>
        </p:nvPicPr>
        <p:blipFill>
          <a:blip r:embed="rId4"/>
          <a:srcRect l="7937" t="5577" r="0" b="2381"/>
          <a:stretch/>
        </p:blipFill>
        <p:spPr>
          <a:xfrm>
            <a:off x="685800" y="6094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590920" y="54864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73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Botanischer Garte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50000">
                    <a:srgbClr val="73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1080" y="228600"/>
            <a:ext cx="5334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64600" dir="4725161" blurRad="0" rotWithShape="0">
                    <a:srgbClr val="ffffcc"/>
                  </a:outerShdw>
                </a:effectLst>
                <a:latin typeface="Comic Sans MS"/>
              </a:rPr>
              <a:t>riesige Mangrove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33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64600" dir="472516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Rad-Tour-Botanischer-Garten_1" descr=""/>
          <p:cNvPicPr/>
          <p:nvPr/>
        </p:nvPicPr>
        <p:blipFill>
          <a:blip r:embed="rId5"/>
          <a:stretch/>
        </p:blipFill>
        <p:spPr>
          <a:xfrm>
            <a:off x="2590920" y="228600"/>
            <a:ext cx="4267080" cy="6400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91" name="Rambo-Busch-Bambus_2" descr=""/>
          <p:cNvPicPr/>
          <p:nvPr/>
        </p:nvPicPr>
        <p:blipFill>
          <a:blip r:embed="rId6"/>
          <a:stretch/>
        </p:blipFill>
        <p:spPr>
          <a:xfrm>
            <a:off x="2590920" y="228600"/>
            <a:ext cx="4267080" cy="6400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2971800" y="685800"/>
            <a:ext cx="3352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64600" dir="4725161" blurRad="0" rotWithShape="0">
                    <a:srgbClr val="ffffcc"/>
                  </a:outerShdw>
                </a:effectLst>
                <a:latin typeface="Comic Sans MS"/>
              </a:rPr>
              <a:t>Bambus-Wäld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33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64600" dir="4725161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21225000">
            <a:off x="1690200" y="1820880"/>
            <a:ext cx="5384880" cy="26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51d00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ffffcc"/>
                  </a:outerShdw>
                </a:effectLst>
                <a:latin typeface="Comic Sans MS"/>
              </a:rPr>
              <a:t>Radtour I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51d00"/>
                  </a:gs>
                </a:gsLst>
                <a:lin ang="5400000"/>
              </a:gradFill>
              <a:effectLst>
                <a:outerShdw dist="52300" dir="836435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4" name="Rad-Tour-Moor_1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95" name="Rad-Tour-Moor_2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96" name="Rad-Tour-Moor_3" descr=""/>
          <p:cNvPicPr/>
          <p:nvPr/>
        </p:nvPicPr>
        <p:blipFill>
          <a:blip r:embed="rId4"/>
          <a:srcRect l="0" t="6817" r="6061" b="0"/>
          <a:stretch/>
        </p:blipFill>
        <p:spPr>
          <a:xfrm>
            <a:off x="304920" y="3505320"/>
            <a:ext cx="4724280" cy="3124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 rot="20714400">
            <a:off x="2286000" y="838080"/>
            <a:ext cx="6291360" cy="417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e1c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ffffcc"/>
                  </a:outerShdw>
                </a:effectLst>
                <a:latin typeface="Comic Sans MS"/>
              </a:rPr>
              <a:t>. . . die Folgen e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e1c00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40186" dir="109635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e1c00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ffffcc"/>
                  </a:outerShdw>
                </a:effectLst>
                <a:latin typeface="Comic Sans MS"/>
              </a:rPr>
              <a:t>Waldbrand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e1c00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40186" dir="1096358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464832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51d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Ende im Mooras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51d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Krokodil-Farm_1" descr="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00" name="Krokodil-Farm_2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01" name="Krokodil-Farm_3" descr=""/>
          <p:cNvPicPr/>
          <p:nvPr/>
        </p:nvPicPr>
        <p:blipFill>
          <a:blip r:embed="rId4"/>
          <a:stretch/>
        </p:blipFill>
        <p:spPr>
          <a:xfrm>
            <a:off x="762120" y="914400"/>
            <a:ext cx="761976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1523880" y="4800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8e1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Krokodil-Farm</a:t>
            </a:r>
            <a:endParaRPr b="0" lang="en-US" sz="2400" spc="1" strike="noStrike">
              <a:ln w="1908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8e1c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ambo-Lkw_1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1523880" y="228600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50000">
                      <a:srgbClr val="ff3300"/>
                    </a:gs>
                    <a:gs pos="100000">
                      <a:srgbClr val="7517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Rambo-Tou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50000">
                    <a:srgbClr val="ff3300"/>
                  </a:gs>
                  <a:gs pos="100000">
                    <a:srgbClr val="7517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Rambo-Lkw-Christoph-Juergen_1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7620120" cy="5079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1523880" y="914400"/>
            <a:ext cx="6248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mit russischem Si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durch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Kubas Dschungel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7" name="Rambo-Busch_2" descr=""/>
          <p:cNvPicPr/>
          <p:nvPr/>
        </p:nvPicPr>
        <p:blipFill>
          <a:blip r:embed="rId4"/>
          <a:stretch/>
        </p:blipFill>
        <p:spPr>
          <a:xfrm>
            <a:off x="4648320" y="228600"/>
            <a:ext cx="4267080" cy="6400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08" name="Rambo-Busch-Bambus_1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4267080" cy="6400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380880" y="304920"/>
            <a:ext cx="47246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e1c00"/>
                    </a:gs>
                    <a:gs pos="50000">
                      <a:srgbClr val="ff3300"/>
                    </a:gs>
                    <a:gs pos="100000">
                      <a:srgbClr val="8e1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und wenn nix mehr geht . . 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e1c00"/>
                  </a:gs>
                  <a:gs pos="50000">
                    <a:srgbClr val="ff3300"/>
                  </a:gs>
                  <a:gs pos="100000">
                    <a:srgbClr val="8e1c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5334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8e1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. . . geht`s zu Fuß weit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8e1c00"/>
                  </a:gs>
                </a:gsLst>
                <a:lin ang="5400000"/>
              </a:grad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1" name="Rambo-Busch_1" descr=""/>
          <p:cNvPicPr/>
          <p:nvPr/>
        </p:nvPicPr>
        <p:blipFill>
          <a:blip r:embed="rId6"/>
          <a:srcRect l="798" t="0" r="8801" b="0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24:24Z</dcterms:created>
  <dc:creator>Lutz Drößler</dc:creator>
  <dc:description/>
  <dc:language>en-US</dc:language>
  <cp:lastModifiedBy>Lutz Drößler</cp:lastModifiedBy>
  <dcterms:modified xsi:type="dcterms:W3CDTF">2002-01-17T20:07:15Z</dcterms:modified>
  <cp:revision>20</cp:revision>
  <dc:subject/>
  <dc:title> </dc:title>
</cp:coreProperties>
</file>