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29.gif" ContentType="image/gif"/>
  <Override PartName="/ppt/media/image25.jpeg" ContentType="image/jpeg"/>
  <Override PartName="/ppt/media/image28.wmf" ContentType="image/x-wmf"/>
  <Override PartName="/ppt/media/image27.jpeg" ContentType="image/jpeg"/>
  <Override PartName="/ppt/media/image24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F7A-7B1A-4FF1-91B0-558DBAA3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E23-B610-482A-ADC6-070B4F54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368-C9C1-46AC-A80D-0CDA8AD3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0A8-A9B8-4A95-917B-74D934C3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B76-A59C-401E-B5E2-3A47E590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BA5-610D-448A-9F51-280866D8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112-59AF-4DBB-8A7A-37F56706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18C-15FC-46D9-AA00-D969EF8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7AB-31FE-462B-BC0B-5EDA3083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250-05B3-476A-B50B-2B250F44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6EE-C99E-43A7-A5E3-CA71B7B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04CE-3EBA-413D-A78C-83C41A1D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5A78-2A1E-44E2-8C75-BF972B951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5.jpeg"/><Relationship Id="rId8" Type="http://schemas.openxmlformats.org/officeDocument/2006/relationships/image" Target="../media/image7.wmf"/><Relationship Id="rId9" Type="http://schemas.openxmlformats.org/officeDocument/2006/relationships/image" Target="../media/image5.jpeg"/><Relationship Id="rId10" Type="http://schemas.openxmlformats.org/officeDocument/2006/relationships/hyperlink" Target="http://www.lutzdroessler.de/" TargetMode="Externa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27600">
            <a:off x="685440" y="4647960"/>
            <a:ext cx="7238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19"/>
                <a:gd name="adj2" fmla="val -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a36c35"/>
                  </a:outerShdw>
                </a:effectLst>
                <a:latin typeface="Comic Sans MS"/>
              </a:rPr>
              <a:t>Malta / Gozo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a36c35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457200"/>
            <a:ext cx="38098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89604" dir="18900000" blurRad="0" rotWithShape="0">
                    <a:srgbClr val="a36c35"/>
                  </a:outerShdw>
                </a:effectLst>
                <a:latin typeface="Comic Sans MS"/>
              </a:rPr>
              <a:t>Weihnachten 1994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89604" dir="18900000" blurRad="0" rotWithShape="0">
                  <a:srgbClr val="a36c35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Hubschr1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2819520" cy="94932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onnenuntergang-Bucht_2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5715000" cy="380988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13500000" blurRad="0" rotWithShape="0">
              <a:srgbClr val="926130"/>
            </a:outerShdw>
          </a:effectLst>
        </p:spPr>
      </p:pic>
      <p:pic>
        <p:nvPicPr>
          <p:cNvPr id="91" name="Sonnenuntergang-Flugzeug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5562720" cy="370836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sp>
        <p:nvSpPr>
          <p:cNvPr id="92" name=""/>
          <p:cNvSpPr txBox="1"/>
          <p:nvPr/>
        </p:nvSpPr>
        <p:spPr>
          <a:xfrm rot="20149800">
            <a:off x="9360" y="2459160"/>
            <a:ext cx="9129960" cy="21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36c35"/>
                    </a:gs>
                    <a:gs pos="50000">
                      <a:srgbClr val="33ccff"/>
                    </a:gs>
                    <a:gs pos="100000">
                      <a:srgbClr val="a36c35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ffff00"/>
                  </a:outerShdw>
                </a:effectLst>
                <a:latin typeface="Comic Sans MS"/>
              </a:rPr>
              <a:t>Sonnenuntergang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36c35"/>
                  </a:gs>
                  <a:gs pos="50000">
                    <a:srgbClr val="33ccff"/>
                  </a:gs>
                  <a:gs pos="100000">
                    <a:srgbClr val="a36c35"/>
                  </a:gs>
                </a:gsLst>
                <a:lin ang="5400000"/>
              </a:gradFill>
              <a:effectLst>
                <a:outerShdw dist="125751" dir="18900000" blurRad="0" rotWithShape="0">
                  <a:srgbClr val="ffff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 rot="21334200">
            <a:off x="4036680" y="561600"/>
            <a:ext cx="4572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66ccff"/>
                    </a:gs>
                  </a:gsLst>
                  <a:lin ang="8100000"/>
                </a:gradFill>
                <a:effectLst>
                  <a:outerShdw dist="73964" dir="18063565" blurRad="0" rotWithShape="0">
                    <a:srgbClr val="66ccff"/>
                  </a:outerShdw>
                </a:effectLst>
                <a:latin typeface="Comic Sans MS"/>
              </a:rPr>
              <a:t>... in der Xlendi-Buch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66ccff"/>
                  </a:gs>
                </a:gsLst>
                <a:lin ang="8100000"/>
              </a:gradFill>
              <a:effectLst>
                <a:outerShdw dist="73964" dir="18063565" blurRad="0" rotWithShape="0">
                  <a:srgbClr val="66cc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"/>
          <p:cNvSpPr txBox="1"/>
          <p:nvPr/>
        </p:nvSpPr>
        <p:spPr>
          <a:xfrm rot="21316200">
            <a:off x="5105520" y="5362560"/>
            <a:ext cx="335268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9900"/>
                    </a:gs>
                  </a:gsLst>
                  <a:lin ang="8100000"/>
                </a:gradFill>
                <a:effectLst>
                  <a:outerShdw dist="89604" dir="18900000" blurRad="0" rotWithShape="0">
                    <a:srgbClr val="d8b986"/>
                  </a:outerShdw>
                </a:effectLst>
                <a:latin typeface="Comic Sans MS"/>
              </a:rPr>
              <a:t>im Flieg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lin ang="8100000"/>
              </a:gradFill>
              <a:effectLst>
                <a:outerShdw dist="89604" dir="18900000" blurRad="0" rotWithShape="0">
                  <a:srgbClr val="d8b9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21298200">
            <a:off x="2514600" y="4648320"/>
            <a:ext cx="3124080" cy="11430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74" stAng="10800000" swAng="5400000"/>
                <a:lnTo>
                  <a:pt x="17056" y="3986"/>
                </a:lnTo>
                <a:lnTo>
                  <a:pt x="17056" y="0"/>
                </a:lnTo>
                <a:lnTo>
                  <a:pt x="21600" y="6079"/>
                </a:lnTo>
                <a:lnTo>
                  <a:pt x="17056" y="12158"/>
                </a:lnTo>
                <a:lnTo>
                  <a:pt x="17056" y="8172"/>
                </a:lnTo>
                <a:lnTo>
                  <a:pt x="12427" y="8172"/>
                </a:lnTo>
                <a:arcTo wR="8241" hR="3988" stAng="16200000" swAng="-5400000"/>
                <a:lnTo>
                  <a:pt x="4186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2871720" cy="2952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143000" y="609480"/>
            <a:ext cx="4876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07932" dir="2700000" blurRad="0" rotWithShape="0">
                    <a:srgbClr val="926130"/>
                  </a:outerShdw>
                </a:effectLst>
                <a:latin typeface="Comic Sans MS"/>
              </a:rPr>
              <a:t>Präsentiert von 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07932" dir="2700000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 rot="20800200">
            <a:off x="5028840" y="1600200"/>
            <a:ext cx="238428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2300" dir="836435" blurRad="0" rotWithShape="0">
                    <a:srgbClr val="926130"/>
                  </a:outerShdw>
                </a:effectLst>
                <a:latin typeface="Edwardian Script ITC"/>
              </a:rPr>
              <a:t>Lutz Drößler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2300" dir="836435" blurRad="0" rotWithShape="0">
                  <a:srgbClr val="926130"/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0492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04920"/>
            <a:ext cx="0" cy="5943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ogo" descr=""/>
          <p:cNvPicPr/>
          <p:nvPr/>
        </p:nvPicPr>
        <p:blipFill>
          <a:blip r:embed="rId3"/>
          <a:stretch/>
        </p:blipFill>
        <p:spPr>
          <a:xfrm>
            <a:off x="6553080" y="3962520"/>
            <a:ext cx="1600200" cy="152244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1219320"/>
            <a:ext cx="1871640" cy="1807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162920" y="3657600"/>
            <a:ext cx="1590480" cy="173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04920" y="31240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5410080" y="0"/>
            <a:ext cx="331308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04920"/>
            <a:ext cx="2514600" cy="2057400"/>
          </a:xfrm>
          <a:prstGeom prst="cloudCallout">
            <a:avLst>
              <a:gd name="adj1" fmla="val 72032"/>
              <a:gd name="adj2" fmla="val 5408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143000" y="45720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24080" y="2438280"/>
            <a:ext cx="3276720" cy="1828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 rot="21437400">
            <a:off x="3813120" y="3045960"/>
            <a:ext cx="1830600" cy="532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 rot="21450000">
            <a:off x="3504960" y="3124080"/>
            <a:ext cx="263664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 rot="500400">
            <a:off x="6035400" y="5257800"/>
            <a:ext cx="2754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droess@web.de</a:t>
            </a:r>
            <a:endParaRPr b="0" lang="en-US" sz="1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914400" y="3505320"/>
            <a:ext cx="1219320" cy="1049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6019920"/>
            <a:ext cx="32763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5120" y="617220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7" name="">
            <a:hlinkClick r:id="rId10"/>
          </p:cNvPr>
          <p:cNvSpPr/>
          <p:nvPr/>
        </p:nvSpPr>
        <p:spPr>
          <a:xfrm>
            <a:off x="2666880" y="4495680"/>
            <a:ext cx="3886200" cy="8384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19520" y="472428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Luftbild-Gozo-Kueste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606840" cy="541008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pic>
        <p:nvPicPr>
          <p:cNvPr id="60" name="Hubschrauber_1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876920" cy="325116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sp>
        <p:nvSpPr>
          <p:cNvPr id="61" name=""/>
          <p:cNvSpPr txBox="1"/>
          <p:nvPr/>
        </p:nvSpPr>
        <p:spPr>
          <a:xfrm>
            <a:off x="990720" y="1981080"/>
            <a:ext cx="3276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ff33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cc99"/>
                    </a:gs>
                    <a:gs pos="100000">
                      <a:srgbClr val="0066cc"/>
                    </a:gs>
                  </a:gsLst>
                  <a:lin ang="13500000"/>
                </a:gradFill>
                <a:effectLst>
                  <a:outerShdw dist="63504" dir="2216091" blurRad="0" rotWithShape="0">
                    <a:srgbClr val="990000"/>
                  </a:outerShdw>
                </a:effectLst>
                <a:latin typeface="Comic Sans MS"/>
              </a:rPr>
              <a:t>Transfer </a:t>
            </a:r>
            <a:endParaRPr b="0" lang="en-US" sz="2400" spc="1" strike="noStrike">
              <a:ln w="19080">
                <a:solidFill>
                  <a:srgbClr val="99ff33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cc99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63504" dir="2216091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4648320"/>
            <a:ext cx="4572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e1c2a3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a36c35"/>
                  </a:outerShdw>
                </a:effectLst>
                <a:latin typeface="Comic Sans MS"/>
              </a:rPr>
              <a:t>Malta - Goz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e1c2a3"/>
                  </a:gs>
                  <a:gs pos="100000">
                    <a:srgbClr val="b2b2b2"/>
                  </a:gs>
                </a:gsLst>
                <a:lin ang="5400000"/>
              </a:gradFill>
              <a:effectLst>
                <a:outerShdw dist="125751" dir="18900000" blurRad="0" rotWithShape="0">
                  <a:srgbClr val="a36c35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62720" y="1447920"/>
            <a:ext cx="327636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99192" dir="19218056" blurRad="0" rotWithShape="0">
                    <a:srgbClr val="926130"/>
                  </a:outerShdw>
                </a:effectLst>
                <a:latin typeface="Comic Sans MS"/>
              </a:rPr>
              <a:t>Küste Goz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99192" dir="19218056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Xlendi-Bay_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5715000" cy="380988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pic>
        <p:nvPicPr>
          <p:cNvPr id="65" name="Xlendi-Bay-Fels_3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495680" cy="299736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sp>
        <p:nvSpPr>
          <p:cNvPr id="66" name=""/>
          <p:cNvSpPr txBox="1"/>
          <p:nvPr/>
        </p:nvSpPr>
        <p:spPr>
          <a:xfrm rot="21137400">
            <a:off x="3960720" y="4627080"/>
            <a:ext cx="495324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3333cc"/>
                    </a:gs>
                  </a:gsLst>
                  <a:lin ang="13500000"/>
                </a:gradFill>
                <a:effectLst>
                  <a:outerShdw dist="63504" dir="2216091" blurRad="0" rotWithShape="0">
                    <a:srgbClr val="926130"/>
                  </a:outerShdw>
                </a:effectLst>
                <a:latin typeface="Comic Sans MS"/>
              </a:rPr>
              <a:t>die Xlendi-Bucht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lin ang="13500000"/>
              </a:gradFill>
              <a:effectLst>
                <a:outerShdw dist="63504" dir="2216091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7" name="Xlendi-Bay-Tower_1" descr=""/>
          <p:cNvPicPr/>
          <p:nvPr/>
        </p:nvPicPr>
        <p:blipFill>
          <a:blip r:embed="rId4"/>
          <a:stretch/>
        </p:blipFill>
        <p:spPr>
          <a:xfrm>
            <a:off x="3962520" y="3327480"/>
            <a:ext cx="4952880" cy="330192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sp>
        <p:nvSpPr>
          <p:cNvPr id="68" name=""/>
          <p:cNvSpPr/>
          <p:nvPr/>
        </p:nvSpPr>
        <p:spPr>
          <a:xfrm>
            <a:off x="5029200" y="228600"/>
            <a:ext cx="3886200" cy="2286000"/>
          </a:xfrm>
          <a:prstGeom prst="wedgeRoundRectCallout">
            <a:avLst>
              <a:gd name="adj1" fmla="val -46486"/>
              <a:gd name="adj2" fmla="val 74513"/>
              <a:gd name="adj3" fmla="val 16667"/>
            </a:avLst>
          </a:prstGeom>
          <a:solidFill>
            <a:srgbClr val="e1c2a3"/>
          </a:solidFill>
          <a:ln w="9360">
            <a:solidFill>
              <a:srgbClr val="99ff33"/>
            </a:solidFill>
            <a:miter/>
          </a:ln>
          <a:effectLst>
            <a:outerShdw dist="107932" dir="18900000" blurRad="0" rotWithShape="0">
              <a:srgbClr val="9261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Xlendi-Bay-Fels_1" descr=""/>
          <p:cNvPicPr/>
          <p:nvPr/>
        </p:nvPicPr>
        <p:blipFill>
          <a:blip r:embed="rId5"/>
          <a:srcRect l="20000" t="0" r="5333" b="0"/>
          <a:stretch/>
        </p:blipFill>
        <p:spPr>
          <a:xfrm>
            <a:off x="228600" y="3363840"/>
            <a:ext cx="3657600" cy="326556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sp>
        <p:nvSpPr>
          <p:cNvPr id="70" name=""/>
          <p:cNvSpPr txBox="1"/>
          <p:nvPr/>
        </p:nvSpPr>
        <p:spPr>
          <a:xfrm>
            <a:off x="5562720" y="533520"/>
            <a:ext cx="29718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0066cc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26130"/>
                  </a:outerShdw>
                </a:effectLst>
                <a:latin typeface="Comic Sans MS"/>
              </a:rPr>
              <a:t>Blick au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40186" dir="1096358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0066cc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26130"/>
                  </a:outerShdw>
                </a:effectLst>
                <a:latin typeface="Comic Sans MS"/>
              </a:rPr>
              <a:t>d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40186" dir="1096358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0066cc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26130"/>
                  </a:outerShdw>
                </a:effectLst>
                <a:latin typeface="Comic Sans MS"/>
              </a:rPr>
              <a:t>Xlendi-Bucht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40186" dir="1096358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ungus-Rock_1" descr=""/>
          <p:cNvPicPr/>
          <p:nvPr/>
        </p:nvPicPr>
        <p:blipFill>
          <a:blip r:embed="rId2"/>
          <a:srcRect l="0" t="0" r="8065" b="0"/>
          <a:stretch/>
        </p:blipFill>
        <p:spPr>
          <a:xfrm>
            <a:off x="228600" y="228600"/>
            <a:ext cx="4572000" cy="331488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pic>
        <p:nvPicPr>
          <p:cNvPr id="72" name="Inlandsee-Qawra_1" descr=""/>
          <p:cNvPicPr/>
          <p:nvPr/>
        </p:nvPicPr>
        <p:blipFill>
          <a:blip r:embed="rId3"/>
          <a:srcRect l="0" t="0" r="0" b="20000"/>
          <a:stretch/>
        </p:blipFill>
        <p:spPr>
          <a:xfrm>
            <a:off x="5105520" y="2057400"/>
            <a:ext cx="3809880" cy="457200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sp>
        <p:nvSpPr>
          <p:cNvPr id="73" name=""/>
          <p:cNvSpPr txBox="1"/>
          <p:nvPr/>
        </p:nvSpPr>
        <p:spPr>
          <a:xfrm>
            <a:off x="380880" y="2895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1c2a3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99192" dir="18581945" blurRad="0" rotWithShape="0">
                    <a:srgbClr val="926130"/>
                  </a:outerShdw>
                </a:effectLst>
                <a:latin typeface="Comic Sans MS"/>
              </a:rPr>
              <a:t>Fungus Rock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1c2a3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99192" dir="18581945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3720" y="5562720"/>
            <a:ext cx="6553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1c2a3"/>
                    </a:gs>
                    <a:gs pos="100000">
                      <a:srgbClr val="33ccff"/>
                    </a:gs>
                  </a:gsLst>
                  <a:lin ang="8100000"/>
                </a:gradFill>
                <a:effectLst>
                  <a:outerShdw dist="99192" dir="19218056" blurRad="0" rotWithShape="0">
                    <a:srgbClr val="926130"/>
                  </a:outerShdw>
                </a:effectLst>
                <a:latin typeface="Comic Sans MS"/>
              </a:rPr>
              <a:t>Inlandsee Qawr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1c2a3"/>
                  </a:gs>
                  <a:gs pos="100000">
                    <a:srgbClr val="33ccff"/>
                  </a:gs>
                </a:gsLst>
                <a:lin ang="8100000"/>
              </a:gradFill>
              <a:effectLst>
                <a:outerShdw dist="99192" dir="19218056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zur-Window_Dwejra-Point_1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5486400" cy="365760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pic>
        <p:nvPicPr>
          <p:cNvPr id="76" name="Azur-Window_Dwejra-Point_2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5105520" cy="340344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13500000" blurRad="0" rotWithShape="0">
              <a:srgbClr val="926130"/>
            </a:outerShdw>
          </a:effectLst>
        </p:spPr>
      </p:pic>
      <p:sp>
        <p:nvSpPr>
          <p:cNvPr id="77" name=""/>
          <p:cNvSpPr txBox="1"/>
          <p:nvPr/>
        </p:nvSpPr>
        <p:spPr>
          <a:xfrm rot="20074200">
            <a:off x="-15480" y="1982520"/>
            <a:ext cx="91234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6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1c2a3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91658" dir="18217660" blurRad="0" rotWithShape="0">
                    <a:srgbClr val="926130"/>
                  </a:outerShdw>
                </a:effectLst>
                <a:latin typeface="Comic Sans MS"/>
              </a:rPr>
              <a:t>Azur - Window  Dwejra - Poi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1c2a3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91658" dir="18217660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auchplatz-Hondog_1" descr=""/>
          <p:cNvPicPr/>
          <p:nvPr/>
        </p:nvPicPr>
        <p:blipFill>
          <a:blip r:embed="rId2"/>
          <a:stretch/>
        </p:blipFill>
        <p:spPr>
          <a:xfrm>
            <a:off x="228600" y="2921040"/>
            <a:ext cx="5562720" cy="370836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18900000" blurRad="0" rotWithShape="0">
              <a:srgbClr val="926130"/>
            </a:outerShdw>
          </a:effectLst>
        </p:spPr>
      </p:pic>
      <p:pic>
        <p:nvPicPr>
          <p:cNvPr id="79" name="Tauchplatz-Hondog_2" descr=""/>
          <p:cNvPicPr/>
          <p:nvPr/>
        </p:nvPicPr>
        <p:blipFill>
          <a:blip r:embed="rId3"/>
          <a:stretch/>
        </p:blipFill>
        <p:spPr>
          <a:xfrm>
            <a:off x="3733920" y="304920"/>
            <a:ext cx="5181480" cy="345420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18900000" blurRad="0" rotWithShape="0">
              <a:srgbClr val="926130"/>
            </a:outerShdw>
          </a:effectLst>
        </p:spPr>
      </p:pic>
      <p:sp>
        <p:nvSpPr>
          <p:cNvPr id="80" name=""/>
          <p:cNvSpPr txBox="1"/>
          <p:nvPr/>
        </p:nvSpPr>
        <p:spPr>
          <a:xfrm rot="1204200">
            <a:off x="745920" y="2482560"/>
            <a:ext cx="7921440" cy="13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e1c2a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926130"/>
                  </a:outerShdw>
                </a:effectLst>
                <a:latin typeface="Comic Sans MS"/>
              </a:rPr>
              <a:t>Tauchplatz - Hondo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e1c2a3"/>
                  </a:gs>
                </a:gsLst>
                <a:lin ang="5400000"/>
              </a:gradFill>
              <a:effectLst>
                <a:outerShdw dist="125751" dir="18900000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Lippfisch_1" descr=""/>
          <p:cNvPicPr/>
          <p:nvPr/>
        </p:nvPicPr>
        <p:blipFill>
          <a:blip r:embed="rId2"/>
          <a:srcRect l="10667" t="0" r="18666" b="12001"/>
          <a:stretch/>
        </p:blipFill>
        <p:spPr>
          <a:xfrm>
            <a:off x="533520" y="3505320"/>
            <a:ext cx="3733560" cy="310032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pic>
        <p:nvPicPr>
          <p:cNvPr id="82" name="Meerbarben_1" descr=""/>
          <p:cNvPicPr/>
          <p:nvPr/>
        </p:nvPicPr>
        <p:blipFill>
          <a:blip r:embed="rId3"/>
          <a:srcRect l="0" t="0" r="0" b="12001"/>
          <a:stretch/>
        </p:blipFill>
        <p:spPr>
          <a:xfrm>
            <a:off x="228600" y="228600"/>
            <a:ext cx="5105520" cy="299556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pic>
        <p:nvPicPr>
          <p:cNvPr id="83" name="Meeraesche_1" descr=""/>
          <p:cNvPicPr/>
          <p:nvPr/>
        </p:nvPicPr>
        <p:blipFill>
          <a:blip r:embed="rId4"/>
          <a:srcRect l="10667" t="0" r="13334" b="13999"/>
          <a:stretch/>
        </p:blipFill>
        <p:spPr>
          <a:xfrm>
            <a:off x="4572000" y="2209680"/>
            <a:ext cx="4343400" cy="327672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926130"/>
            </a:outerShdw>
          </a:effectLst>
        </p:spPr>
      </p:pic>
      <p:sp>
        <p:nvSpPr>
          <p:cNvPr id="84" name=""/>
          <p:cNvSpPr txBox="1"/>
          <p:nvPr/>
        </p:nvSpPr>
        <p:spPr>
          <a:xfrm rot="21104400">
            <a:off x="4798800" y="4793760"/>
            <a:ext cx="4037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66cc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926130"/>
                  </a:outerShdw>
                </a:effectLst>
                <a:latin typeface="Comic Sans MS"/>
              </a:rPr>
              <a:t>Meeräsch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66cc"/>
                  </a:gs>
                </a:gsLst>
                <a:lin ang="5400000"/>
              </a:gradFill>
              <a:effectLst>
                <a:outerShdw dist="125751" dir="18900000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2743200"/>
            <a:ext cx="426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e1c2a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926130"/>
                  </a:outerShdw>
                </a:effectLst>
                <a:latin typeface="Comic Sans MS"/>
              </a:rPr>
              <a:t>Meerbarbe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e1c2a3"/>
                  </a:gs>
                </a:gsLst>
                <a:lin ang="5400000"/>
              </a:gradFill>
              <a:effectLst>
                <a:outerShdw dist="125751" dir="18900000" blurRad="0" rotWithShape="0">
                  <a:srgbClr val="92613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nurrhahn_1" descr=""/>
          <p:cNvPicPr/>
          <p:nvPr/>
        </p:nvPicPr>
        <p:blipFill>
          <a:blip r:embed="rId2"/>
          <a:srcRect l="24001" t="22001" r="14668" b="12001"/>
          <a:stretch/>
        </p:blipFill>
        <p:spPr>
          <a:xfrm>
            <a:off x="5105520" y="228600"/>
            <a:ext cx="3809880" cy="273384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8100000" blurRad="0" rotWithShape="0">
              <a:srgbClr val="926130"/>
            </a:outerShdw>
          </a:effectLst>
        </p:spPr>
      </p:pic>
      <p:pic>
        <p:nvPicPr>
          <p:cNvPr id="87" name="Knurrhahn_2" descr=""/>
          <p:cNvPicPr/>
          <p:nvPr/>
        </p:nvPicPr>
        <p:blipFill>
          <a:blip r:embed="rId3"/>
          <a:srcRect l="16000" t="12001" r="10667" b="12001"/>
          <a:stretch/>
        </p:blipFill>
        <p:spPr>
          <a:xfrm>
            <a:off x="228600" y="228600"/>
            <a:ext cx="4648320" cy="321156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8100000" blurRad="0" rotWithShape="0">
              <a:srgbClr val="926130"/>
            </a:outerShdw>
          </a:effectLst>
        </p:spPr>
      </p:pic>
      <p:pic>
        <p:nvPicPr>
          <p:cNvPr id="88" name="Knurrhahn_3" descr=""/>
          <p:cNvPicPr/>
          <p:nvPr/>
        </p:nvPicPr>
        <p:blipFill>
          <a:blip r:embed="rId4"/>
          <a:srcRect l="14668" t="13999" r="14668" b="0"/>
          <a:stretch/>
        </p:blipFill>
        <p:spPr>
          <a:xfrm>
            <a:off x="4191120" y="3124080"/>
            <a:ext cx="4343400" cy="3524400"/>
          </a:xfrm>
          <a:prstGeom prst="rect">
            <a:avLst/>
          </a:prstGeom>
          <a:ln w="9360">
            <a:solidFill>
              <a:srgbClr val="99ff33"/>
            </a:solidFill>
            <a:miter/>
          </a:ln>
          <a:effectLst>
            <a:outerShdw dist="107932" dir="8100000" blurRad="0" rotWithShape="0">
              <a:srgbClr val="926130"/>
            </a:outerShdw>
          </a:effectLst>
        </p:spPr>
      </p:pic>
      <p:sp>
        <p:nvSpPr>
          <p:cNvPr id="89" name=""/>
          <p:cNvSpPr txBox="1"/>
          <p:nvPr/>
        </p:nvSpPr>
        <p:spPr>
          <a:xfrm rot="20173800">
            <a:off x="304560" y="3580920"/>
            <a:ext cx="5025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91658" dir="19582341" blurRad="0" rotWithShape="0">
                    <a:srgbClr val="a36c35"/>
                  </a:outerShdw>
                </a:effectLst>
                <a:latin typeface="Comic Sans MS"/>
              </a:rPr>
              <a:t>Knurrhah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91658" dir="19582341" blurRad="0" rotWithShape="0">
                  <a:srgbClr val="a36c35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20:34:27Z</dcterms:created>
  <dc:creator>Lutz Drößler</dc:creator>
  <dc:description/>
  <dc:language>en-US</dc:language>
  <cp:lastModifiedBy>Lutz Drößler</cp:lastModifiedBy>
  <dcterms:modified xsi:type="dcterms:W3CDTF">2002-07-24T21:14:12Z</dcterms:modified>
  <cp:revision>18</cp:revision>
  <dc:subject/>
  <dc:title>Kein Folientitel</dc:title>
</cp:coreProperties>
</file>