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2.wmf" ContentType="image/x-wmf"/>
  <Override PartName="/ppt/media/image27.jpeg" ContentType="image/jpeg"/>
  <Override PartName="/ppt/media/image33.jpeg" ContentType="image/jpeg"/>
  <Override PartName="/ppt/media/image6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wmf" ContentType="image/x-wmf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233-8BBE-4CED-9598-B59C3A11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E13-FFB4-4838-9CE3-6B702EE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806-7846-4FAD-91BB-8404B855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E2D-2F49-42B4-B990-221D38E4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4AE-EE3C-41E8-9817-36D7954E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216-19C4-446C-97C3-FE00CF58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591-3039-4458-973D-5056AB4B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33D-5180-467E-81BE-3A5A203E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7CD-6D11-478C-8204-84E9F747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71E-A865-4CF2-8165-C627A4E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4C0-790A-4C0A-B279-117835F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2E5-50BC-4EB7-B4A9-2EEB6F4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86C-E14A-4510-91A7-D8608AA85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5.wmf"/><Relationship Id="rId9" Type="http://schemas.openxmlformats.org/officeDocument/2006/relationships/image" Target="../media/image44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6.wmf"/><Relationship Id="rId12" Type="http://schemas.openxmlformats.org/officeDocument/2006/relationships/image" Target="../media/image44.jpeg"/><Relationship Id="rId13" Type="http://schemas.openxmlformats.org/officeDocument/2006/relationships/hyperlink" Target="http://www.lutzdroessler.de/" TargetMode="External"/><Relationship Id="rId14" Type="http://schemas.openxmlformats.org/officeDocument/2006/relationships/image" Target="../media/image4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2520" y="2514600"/>
            <a:ext cx="990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3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2514600"/>
            <a:ext cx="990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590920"/>
            <a:ext cx="9144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45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kw-Koffer_1" descr=""/>
          <p:cNvPicPr/>
          <p:nvPr/>
        </p:nvPicPr>
        <p:blipFill>
          <a:blip r:embed="rId2"/>
          <a:srcRect l="0" t="1998" r="0" b="0"/>
          <a:stretch/>
        </p:blipFill>
        <p:spPr>
          <a:xfrm>
            <a:off x="838080" y="660240"/>
            <a:ext cx="7620120" cy="497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Kkw-Birgit_1" descr=""/>
          <p:cNvPicPr/>
          <p:nvPr/>
        </p:nvPicPr>
        <p:blipFill>
          <a:blip r:embed="rId3"/>
          <a:srcRect l="0" t="2502" r="0" b="0"/>
          <a:stretch/>
        </p:blipFill>
        <p:spPr>
          <a:xfrm>
            <a:off x="838080" y="685800"/>
            <a:ext cx="762012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990720" y="5867280"/>
            <a:ext cx="7238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...im Ladedeck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Kkw-Tuer_1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09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Kkw-Tuer_2" descr=""/>
          <p:cNvPicPr/>
          <p:nvPr/>
        </p:nvPicPr>
        <p:blipFill>
          <a:blip r:embed="rId3"/>
          <a:srcRect l="6000" t="15002" r="14003" b="7002"/>
          <a:stretch/>
        </p:blipFill>
        <p:spPr>
          <a:xfrm>
            <a:off x="152280" y="4191120"/>
            <a:ext cx="3962520" cy="257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533520" y="76320"/>
            <a:ext cx="8381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Fahrer-Kabine eines "Scanspol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isenbahn-Poller_1" descr=""/>
          <p:cNvPicPr/>
          <p:nvPr/>
        </p:nvPicPr>
        <p:blipFill>
          <a:blip r:embed="rId2"/>
          <a:srcRect l="6752" t="9005" r="2244" b="0"/>
          <a:stretch/>
        </p:blipFill>
        <p:spPr>
          <a:xfrm>
            <a:off x="152280" y="152280"/>
            <a:ext cx="777240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Eb-Wagon-Poller" descr=""/>
          <p:cNvPicPr/>
          <p:nvPr/>
        </p:nvPicPr>
        <p:blipFill>
          <a:blip r:embed="rId3"/>
          <a:srcRect l="0" t="0" r="10630" b="7470"/>
          <a:stretch/>
        </p:blipFill>
        <p:spPr>
          <a:xfrm>
            <a:off x="3505320" y="2919240"/>
            <a:ext cx="5486400" cy="378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 rot="21343200">
            <a:off x="228600" y="0"/>
            <a:ext cx="75358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Prellbock am Ende des Ladedeck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 rot="84000">
            <a:off x="3962160" y="541296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Eisenbahnwagon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kw-Erwin_2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502920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Kkw-Erwin-Lenker_1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502920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 rot="1096800">
            <a:off x="2438280" y="1218960"/>
            <a:ext cx="2665440" cy="60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436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Lenkrad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Kkw-Erwin_1" descr=""/>
          <p:cNvPicPr/>
          <p:nvPr/>
        </p:nvPicPr>
        <p:blipFill>
          <a:blip r:embed="rId4"/>
          <a:srcRect l="4002" t="0" r="3000" b="7002"/>
          <a:stretch/>
        </p:blipFill>
        <p:spPr>
          <a:xfrm>
            <a:off x="228600" y="304920"/>
            <a:ext cx="8686800" cy="579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 rot="84000">
            <a:off x="383760" y="4114800"/>
            <a:ext cx="8381880" cy="26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er Lkw mit dem Schriftzu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"Erwin" an der Fahrertür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enerator_1" descr=""/>
          <p:cNvPicPr/>
          <p:nvPr/>
        </p:nvPicPr>
        <p:blipFill>
          <a:blip r:embed="rId2"/>
          <a:srcRect l="20003" t="0" r="0" b="4500"/>
          <a:stretch/>
        </p:blipFill>
        <p:spPr>
          <a:xfrm>
            <a:off x="990720" y="258840"/>
            <a:ext cx="7238880" cy="57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 rot="84000">
            <a:off x="1371600" y="4876560"/>
            <a:ext cx="586728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Generat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8" name="Karcher_2" descr=""/>
          <p:cNvPicPr/>
          <p:nvPr/>
        </p:nvPicPr>
        <p:blipFill>
          <a:blip r:embed="rId3"/>
          <a:srcRect l="9685" t="7263" r="11299" b="5639"/>
          <a:stretch/>
        </p:blipFill>
        <p:spPr>
          <a:xfrm>
            <a:off x="228600" y="3773520"/>
            <a:ext cx="3886200" cy="285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Feuer-Schlauch_1" descr=""/>
          <p:cNvPicPr/>
          <p:nvPr/>
        </p:nvPicPr>
        <p:blipFill>
          <a:blip r:embed="rId4"/>
          <a:srcRect l="21791" t="0" r="11122" b="30174"/>
          <a:stretch/>
        </p:blipFill>
        <p:spPr>
          <a:xfrm>
            <a:off x="4267080" y="3505320"/>
            <a:ext cx="46483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 rot="84000">
            <a:off x="380520" y="5716440"/>
            <a:ext cx="3735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Kärcher-Aggregat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 rot="84000">
            <a:off x="4495320" y="57114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Feuerlöschschlauch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E-Verteilung_1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772400" cy="518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3" name="E-Kasten_2" descr=""/>
          <p:cNvPicPr/>
          <p:nvPr/>
        </p:nvPicPr>
        <p:blipFill>
          <a:blip r:embed="rId3"/>
          <a:stretch/>
        </p:blipFill>
        <p:spPr>
          <a:xfrm>
            <a:off x="685800" y="457200"/>
            <a:ext cx="7772400" cy="518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"/>
          <p:cNvSpPr txBox="1"/>
          <p:nvPr/>
        </p:nvSpPr>
        <p:spPr>
          <a:xfrm rot="84000">
            <a:off x="914040" y="5572080"/>
            <a:ext cx="723888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Elektro-Verteilun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Kessel-Oel_1" descr=""/>
          <p:cNvPicPr/>
          <p:nvPr/>
        </p:nvPicPr>
        <p:blipFill>
          <a:blip r:embed="rId2"/>
          <a:srcRect l="0" t="0" r="0" b="10668"/>
          <a:stretch/>
        </p:blipFill>
        <p:spPr>
          <a:xfrm>
            <a:off x="4724280" y="228600"/>
            <a:ext cx="4149720" cy="556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Kessel-Ventil_1" descr=""/>
          <p:cNvPicPr/>
          <p:nvPr/>
        </p:nvPicPr>
        <p:blipFill>
          <a:blip r:embed="rId3"/>
          <a:srcRect l="0" t="7998" r="0" b="2669"/>
          <a:stretch/>
        </p:blipFill>
        <p:spPr>
          <a:xfrm>
            <a:off x="270000" y="228600"/>
            <a:ext cx="4149720" cy="556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 rot="84000">
            <a:off x="686880" y="5262120"/>
            <a:ext cx="78454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Kessel- und Ventilsysteme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Maschine-Zylinder_1" descr=""/>
          <p:cNvPicPr/>
          <p:nvPr/>
        </p:nvPicPr>
        <p:blipFill>
          <a:blip r:embed="rId2"/>
          <a:srcRect l="4862" t="0" r="0" b="0"/>
          <a:stretch/>
        </p:blipFill>
        <p:spPr>
          <a:xfrm>
            <a:off x="609480" y="457200"/>
            <a:ext cx="8077320" cy="565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 rot="181800">
            <a:off x="380520" y="5027400"/>
            <a:ext cx="8375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ie Zylinder der Antriebsmaschine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0" name="Maschine-Zylinder_2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419720" cy="294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4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00120" y="1219320"/>
            <a:ext cx="65008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Eine Dia-Show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von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Lutz Drößler 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400800" y="1219320"/>
          <a:ext cx="1871640" cy="18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219320"/>
                    <a:ext cx="1871640" cy="1807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162920" y="3581280"/>
          <a:ext cx="1590480" cy="17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3581280"/>
                    <a:ext cx="159048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 rot="439800">
            <a:off x="5410080" y="-22860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457200"/>
          <a:ext cx="16002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57200"/>
                    <a:ext cx="1600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124080" y="2438280"/>
            <a:ext cx="3276720" cy="1828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 rot="21437400">
            <a:off x="3809880" y="304776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 rot="21450000">
            <a:off x="3504960" y="31240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 rot="500400">
            <a:off x="6629400" y="5454360"/>
            <a:ext cx="211608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droess@web.de</a:t>
            </a:r>
            <a:endParaRPr b="0" lang="en-US" sz="16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3505320"/>
          <a:ext cx="1219320" cy="104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" y="3505320"/>
                    <a:ext cx="121932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">
            <a:hlinkClick r:id="rId13"/>
          </p:cNvPr>
          <p:cNvSpPr/>
          <p:nvPr/>
        </p:nvSpPr>
        <p:spPr>
          <a:xfrm>
            <a:off x="2666880" y="4572000"/>
            <a:ext cx="3886200" cy="8380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19520" y="48006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14800" y="32004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v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49" name="dia-wrack1" descr=""/>
          <p:cNvPicPr/>
          <p:nvPr/>
        </p:nvPicPr>
        <p:blipFill>
          <a:blip r:embed="rId1"/>
          <a:stretch/>
        </p:blipFill>
        <p:spPr>
          <a:xfrm>
            <a:off x="2629080" y="1771560"/>
            <a:ext cx="3886200" cy="331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43200" y="1371600"/>
            <a:ext cx="380988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ine Diasho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4648320"/>
            <a:ext cx="10670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53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952880" y="449568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90920" y="3124080"/>
            <a:ext cx="38862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Lutz Drößl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142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71600" y="4267080"/>
            <a:ext cx="6553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Tauchattraktionen si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Bugstrahlruder, der berühmte Lk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mit dem Schriftzug "ERWIN"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ie unteren Ladedecks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ie Ruder und die Schrauben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880" y="152280"/>
            <a:ext cx="6096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Am 14. März 1993 versenkte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er Orkan "Vernena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ie Fähre "Jan Heweliusz"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abei kamen 55 Menschen ums Leben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janheweliusz445x190" descr=""/>
          <p:cNvPicPr/>
          <p:nvPr/>
        </p:nvPicPr>
        <p:blipFill>
          <a:blip r:embed="rId2"/>
          <a:stretch/>
        </p:blipFill>
        <p:spPr>
          <a:xfrm>
            <a:off x="1523880" y="152280"/>
            <a:ext cx="6172200" cy="263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heweliusz" descr=""/>
          <p:cNvPicPr/>
          <p:nvPr/>
        </p:nvPicPr>
        <p:blipFill>
          <a:blip r:embed="rId3"/>
          <a:stretch/>
        </p:blipFill>
        <p:spPr>
          <a:xfrm>
            <a:off x="784080" y="4267080"/>
            <a:ext cx="7597800" cy="247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"/>
          <p:cNvSpPr txBox="1"/>
          <p:nvPr/>
        </p:nvSpPr>
        <p:spPr>
          <a:xfrm>
            <a:off x="762120" y="3048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ie Jan Heweliusz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2209680"/>
            <a:ext cx="40766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Mit der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Artur Becker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zur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Jan Heweliusz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4" name="Artur-Becker_1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40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IMAGE0021" descr=""/>
          <p:cNvPicPr/>
          <p:nvPr/>
        </p:nvPicPr>
        <p:blipFill>
          <a:blip r:embed="rId3"/>
          <a:srcRect l="24706" t="0" r="10588" b="0"/>
          <a:stretch/>
        </p:blipFill>
        <p:spPr>
          <a:xfrm>
            <a:off x="228600" y="1676520"/>
            <a:ext cx="4191120" cy="4944960"/>
          </a:xfrm>
          <a:prstGeom prst="rect">
            <a:avLst/>
          </a:prstGeom>
          <a:ln w="0">
            <a:noFill/>
          </a:ln>
        </p:spPr>
      </p:pic>
      <p:pic>
        <p:nvPicPr>
          <p:cNvPr id="66" name="Boje_1" descr=""/>
          <p:cNvPicPr/>
          <p:nvPr/>
        </p:nvPicPr>
        <p:blipFill>
          <a:blip r:embed="rId4"/>
          <a:srcRect l="11594" t="0" r="31885" b="0"/>
          <a:stretch/>
        </p:blipFill>
        <p:spPr>
          <a:xfrm>
            <a:off x="228600" y="1676520"/>
            <a:ext cx="419904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22860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Sicherungsboj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er Gefahrenstel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ug-Reeling_2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9760" cy="507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Bug-Reeling_3" descr=""/>
          <p:cNvPicPr/>
          <p:nvPr/>
        </p:nvPicPr>
        <p:blipFill>
          <a:blip r:embed="rId3"/>
          <a:stretch/>
        </p:blipFill>
        <p:spPr>
          <a:xfrm>
            <a:off x="762120" y="228600"/>
            <a:ext cx="7619760" cy="507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2819520" y="5676840"/>
            <a:ext cx="3657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ffffff"/>
                  </a:outerShdw>
                </a:effectLst>
                <a:latin typeface="Comic Sans MS"/>
              </a:rPr>
              <a:t>Heck-Re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Reeling_1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7619760" cy="507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1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ug-Einstieg_1" descr=""/>
          <p:cNvPicPr/>
          <p:nvPr/>
        </p:nvPicPr>
        <p:blipFill>
          <a:blip r:embed="rId2"/>
          <a:srcRect l="7933" t="0" r="0" b="0"/>
          <a:stretch/>
        </p:blipFill>
        <p:spPr>
          <a:xfrm>
            <a:off x="380880" y="380880"/>
            <a:ext cx="6858000" cy="49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3" name="Bug-Einstieg_2" descr=""/>
          <p:cNvPicPr/>
          <p:nvPr/>
        </p:nvPicPr>
        <p:blipFill>
          <a:blip r:embed="rId3"/>
          <a:srcRect l="0" t="0" r="17323" b="10452"/>
          <a:stretch/>
        </p:blipFill>
        <p:spPr>
          <a:xfrm>
            <a:off x="380880" y="380880"/>
            <a:ext cx="6858000" cy="495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"/>
          <p:cNvSpPr txBox="1"/>
          <p:nvPr/>
        </p:nvSpPr>
        <p:spPr>
          <a:xfrm>
            <a:off x="685800" y="228600"/>
            <a:ext cx="6324480" cy="525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Einstiegsluke in die unteren Deck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5" name="Bruecke-Treppe_2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845820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1676520" y="4800600"/>
            <a:ext cx="58672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Treppe zur Brück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Kiel_1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6324480" cy="421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1828800" y="4038480"/>
            <a:ext cx="5867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am Kiel entla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Bug-Strahl_2" descr=""/>
          <p:cNvPicPr/>
          <p:nvPr/>
        </p:nvPicPr>
        <p:blipFill>
          <a:blip r:embed="rId3"/>
          <a:stretch/>
        </p:blipFill>
        <p:spPr>
          <a:xfrm>
            <a:off x="609480" y="1549440"/>
            <a:ext cx="7162920" cy="4775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0" name="Bug-Strahl_1" descr=""/>
          <p:cNvPicPr/>
          <p:nvPr/>
        </p:nvPicPr>
        <p:blipFill>
          <a:blip r:embed="rId4"/>
          <a:stretch/>
        </p:blipFill>
        <p:spPr>
          <a:xfrm>
            <a:off x="304920" y="1828800"/>
            <a:ext cx="7162560" cy="4775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0" y="1143000"/>
            <a:ext cx="8458200" cy="883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1605086"/>
                <a:gd name="adj2" fmla="val 83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ie mächtigen Bugstrahlrud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der Jan Hewelius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chraube-Ruder_1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3" name="Schraube_3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8001000" cy="53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Schraube_4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419112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304920" y="228600"/>
            <a:ext cx="8839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Schiffsschrauben und Ruderanlage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kw-Rad_2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620120" cy="507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Kkw-Rad_3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75438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Kkw-Rad_1" descr=""/>
          <p:cNvPicPr/>
          <p:nvPr/>
        </p:nvPicPr>
        <p:blipFill>
          <a:blip r:embed="rId4"/>
          <a:stretch/>
        </p:blipFill>
        <p:spPr>
          <a:xfrm>
            <a:off x="1219320" y="1295280"/>
            <a:ext cx="7619760" cy="507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Kkw-Fahrgestell_1" descr=""/>
          <p:cNvPicPr/>
          <p:nvPr/>
        </p:nvPicPr>
        <p:blipFill>
          <a:blip r:embed="rId5"/>
          <a:srcRect l="16829" t="18386" r="2067" b="0"/>
          <a:stretch/>
        </p:blipFill>
        <p:spPr>
          <a:xfrm>
            <a:off x="380880" y="304920"/>
            <a:ext cx="4038840" cy="609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533520" y="5486400"/>
            <a:ext cx="8076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LKWs auf dem unteren Ladedeck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21:13:47Z</dcterms:created>
  <dc:creator>Lutz Drößler</dc:creator>
  <dc:description/>
  <dc:language>en-US</dc:language>
  <cp:lastModifiedBy>Lutz</cp:lastModifiedBy>
  <dcterms:modified xsi:type="dcterms:W3CDTF">2003-08-31T19:00:14Z</dcterms:modified>
  <cp:revision>29</cp:revision>
  <dc:subject/>
  <dc:title>PowerPoint-Präsentation</dc:title>
</cp:coreProperties>
</file>