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3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98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9.wmf" ContentType="image/x-wmf"/>
  <Override PartName="/ppt/media/image40.png" ContentType="image/png"/>
  <Override PartName="/ppt/media/image8.wmf" ContentType="image/x-wmf"/>
  <Override PartName="/ppt/media/image12.jpeg" ContentType="image/jpeg"/>
  <Override PartName="/ppt/media/image29.jpeg" ContentType="image/jpeg"/>
  <Override PartName="/ppt/media/image88.jpeg" ContentType="image/jpeg"/>
  <Override PartName="/ppt/media/image47.jpeg" ContentType="image/jpeg"/>
  <Override PartName="/ppt/media/image19.jpeg" ContentType="image/jpeg"/>
  <Override PartName="/ppt/media/image31.jpeg" ContentType="image/jpeg"/>
  <Override PartName="/ppt/media/image93.wmf" ContentType="image/x-wmf"/>
  <Override PartName="/ppt/media/image25.jpeg" ContentType="image/jpeg"/>
  <Override PartName="/ppt/media/image84.jpeg" ContentType="image/jpeg"/>
  <Override PartName="/ppt/media/image52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3.jpeg" ContentType="image/jpeg"/>
  <Override PartName="/ppt/media/image90.jpeg" ContentType="image/jpeg"/>
  <Override PartName="/ppt/media/image100.gif" ContentType="image/gif"/>
  <Override PartName="/ppt/media/image75.jpeg" ContentType="image/jpeg"/>
  <Override PartName="/ppt/media/image99.wmf" ContentType="image/x-wmf"/>
  <Override PartName="/ppt/media/image76.jpeg" ContentType="image/jpeg"/>
  <Override PartName="/ppt/media/image96.jpeg" ContentType="image/jpeg"/>
  <Override PartName="/ppt/media/image95.jpeg" ContentType="image/jpeg"/>
  <Override PartName="/ppt/media/image2.wmf" ContentType="image/x-wmf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24.jpeg" ContentType="image/jpeg"/>
  <Override PartName="/ppt/media/image83.jpeg" ContentType="image/jpeg"/>
  <Override PartName="/ppt/media/image21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66.jpeg" ContentType="image/jpeg"/>
  <Override PartName="/ppt/media/image4.wmf" ContentType="image/x-wmf"/>
  <Override PartName="/ppt/media/image82.jpeg" ContentType="image/jpeg"/>
  <Override PartName="/ppt/media/image23.jpeg" ContentType="image/jpeg"/>
  <Override PartName="/ppt/media/image38.jpeg" ContentType="image/jpeg"/>
  <Override PartName="/ppt/media/image97.jpeg" ContentType="image/jpeg"/>
  <Override PartName="/ppt/media/image15.jpeg" ContentType="image/jpeg"/>
  <Override PartName="/ppt/media/image13.jpeg" ContentType="image/jpeg"/>
  <Override PartName="/ppt/media/image5.wmf" ContentType="image/x-wmf"/>
  <Override PartName="/ppt/media/image8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350-B7D8-4071-91C3-6452BF15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655-A0A3-4DDB-95E0-3CFDC27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D86-2E81-4413-B868-AF24FC7F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3A1-829A-4EFA-BB46-313E264A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B52-5E1F-4C18-B9AF-EB708BEA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BD8-4405-4ABC-B345-39709828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E0F-70CB-42CA-A1BB-0E1A195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9B2-AED9-49E5-B5E1-E80EEA1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B53-BF85-4429-9F1E-3F29B53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DD2-DA4F-45E8-B282-F04A6E7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41C-33D7-49E7-B710-1C9BB54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769-EB71-4DA5-B78D-CBC7BCB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513-EB2D-4077-90B0-288F70FF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image" Target="../media/image7.jpeg"/><Relationship Id="rId8" Type="http://schemas.openxmlformats.org/officeDocument/2006/relationships/image" Target="../media/image9.wmf"/><Relationship Id="rId9" Type="http://schemas.openxmlformats.org/officeDocument/2006/relationships/image" Target="../media/image7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image" Target="../media/image83.jpeg"/><Relationship Id="rId9" Type="http://schemas.openxmlformats.org/officeDocument/2006/relationships/image" Target="../media/image84.jpeg"/><Relationship Id="rId10" Type="http://schemas.openxmlformats.org/officeDocument/2006/relationships/image" Target="../media/image85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wmf"/><Relationship Id="rId3" Type="http://schemas.openxmlformats.org/officeDocument/2006/relationships/image" Target="../media/image10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00240" y="457200"/>
            <a:ext cx="66103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auch-Expediti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09800" y="4610160"/>
            <a:ext cx="518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Kroati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510000" cy="23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1825920" cy="180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</p:pic>
      <p:pic>
        <p:nvPicPr>
          <p:cNvPr id="45" name="SCUBATAU" descr=""/>
          <p:cNvPicPr/>
          <p:nvPr/>
        </p:nvPicPr>
        <p:blipFill>
          <a:blip r:embed="rId4"/>
          <a:stretch/>
        </p:blipFill>
        <p:spPr>
          <a:xfrm>
            <a:off x="6607080" y="4746600"/>
            <a:ext cx="2079720" cy="146844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te%20Weichkoralle_8" descr=""/>
          <p:cNvPicPr/>
          <p:nvPr/>
        </p:nvPicPr>
        <p:blipFill>
          <a:blip r:embed="rId2"/>
          <a:srcRect l="0" t="0" r="13991" b="0"/>
          <a:stretch/>
        </p:blipFill>
        <p:spPr>
          <a:xfrm>
            <a:off x="5257800" y="228600"/>
            <a:ext cx="3657600" cy="29098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04" name="wachsrose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733920" cy="24890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05" name="Rote%20Koralle_2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724280" cy="3371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06" name="gelber%20Faden-Seestern_4" descr=""/>
          <p:cNvPicPr/>
          <p:nvPr/>
        </p:nvPicPr>
        <p:blipFill>
          <a:blip r:embed="rId5"/>
          <a:stretch/>
        </p:blipFill>
        <p:spPr>
          <a:xfrm>
            <a:off x="4191120" y="3335400"/>
            <a:ext cx="4736880" cy="3306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1581120" y="1338120"/>
            <a:ext cx="5695920" cy="25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Hart- und Weich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Korall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3960" y="4102200"/>
            <a:ext cx="264780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Wachsro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 rot="21465000">
            <a:off x="4738680" y="5471640"/>
            <a:ext cx="3790800" cy="704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Haarster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9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Hoehle-Anemone_1" descr=""/>
          <p:cNvPicPr/>
          <p:nvPr/>
        </p:nvPicPr>
        <p:blipFill>
          <a:blip r:embed="rId2"/>
          <a:stretch/>
        </p:blipFill>
        <p:spPr>
          <a:xfrm>
            <a:off x="228600" y="247680"/>
            <a:ext cx="4057560" cy="270504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11" name="Zylinderrose_1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4086360" cy="272412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12" name="Zylinderrose-Chris_1" descr=""/>
          <p:cNvPicPr/>
          <p:nvPr/>
        </p:nvPicPr>
        <p:blipFill>
          <a:blip r:embed="rId4"/>
          <a:stretch/>
        </p:blipFill>
        <p:spPr>
          <a:xfrm>
            <a:off x="4457880" y="2038320"/>
            <a:ext cx="4457520" cy="29718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113" name=""/>
          <p:cNvSpPr txBox="1"/>
          <p:nvPr/>
        </p:nvSpPr>
        <p:spPr>
          <a:xfrm rot="21244800">
            <a:off x="3180960" y="387360"/>
            <a:ext cx="4896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73964" dir="1863564" blurRad="0" rotWithShape="0">
                    <a:srgbClr val="ffffff"/>
                  </a:outerShdw>
                </a:effectLst>
                <a:latin typeface="Comic Sans MS"/>
              </a:rPr>
              <a:t>Höhlen-Anem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73964" dir="18635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901600">
            <a:off x="3735000" y="4714560"/>
            <a:ext cx="46767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85328" dir="1593903" blurRad="0" rotWithShape="0">
                    <a:srgbClr val="ffffff"/>
                  </a:outerShdw>
                </a:effectLst>
                <a:latin typeface="Comic Sans MS"/>
              </a:rPr>
              <a:t>Zylinderro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85328" dir="159390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728880" y="228600"/>
            <a:ext cx="481032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07932" dir="8100000" blurRad="0" rotWithShape="0">
                    <a:srgbClr val="808080"/>
                  </a:outerShdw>
                </a:effectLst>
                <a:latin typeface="Comic Sans MS"/>
              </a:rPr>
              <a:t>Eier eines Katzen-Ha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07932" dir="81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6" name="Hai-Ei-7" descr=""/>
          <p:cNvPicPr/>
          <p:nvPr/>
        </p:nvPicPr>
        <p:blipFill>
          <a:blip r:embed="rId2"/>
          <a:srcRect l="0" t="6485" r="0" b="0"/>
          <a:stretch/>
        </p:blipFill>
        <p:spPr>
          <a:xfrm>
            <a:off x="1371600" y="1863720"/>
            <a:ext cx="7547040" cy="47894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17" name="Hai-Ei-6" descr=""/>
          <p:cNvPicPr/>
          <p:nvPr/>
        </p:nvPicPr>
        <p:blipFill>
          <a:blip r:embed="rId3"/>
          <a:srcRect l="24450" t="0" r="6663" b="0"/>
          <a:stretch/>
        </p:blipFill>
        <p:spPr>
          <a:xfrm>
            <a:off x="228600" y="228600"/>
            <a:ext cx="2971800" cy="29275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0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16236000">
            <a:off x="1325160" y="3798000"/>
            <a:ext cx="1714680" cy="31244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86440" y="514440"/>
            <a:ext cx="4057560" cy="2781360"/>
          </a:xfrm>
          <a:prstGeom prst="irregularSeal2">
            <a:avLst/>
          </a:prstGeom>
          <a:gradFill rotWithShape="0">
            <a:gsLst>
              <a:gs pos="0">
                <a:srgbClr val="fdd303"/>
              </a:gs>
              <a:gs pos="100000">
                <a:srgbClr val="fc9e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91658" dir="2017659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ittagsbucht_1" descr=""/>
          <p:cNvPicPr/>
          <p:nvPr/>
        </p:nvPicPr>
        <p:blipFill>
          <a:blip r:embed="rId2"/>
          <a:stretch/>
        </p:blipFill>
        <p:spPr>
          <a:xfrm>
            <a:off x="228600" y="247680"/>
            <a:ext cx="4686480" cy="312408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21" name="Mittagsbucht_2" descr=""/>
          <p:cNvPicPr/>
          <p:nvPr/>
        </p:nvPicPr>
        <p:blipFill>
          <a:blip r:embed="rId3"/>
          <a:stretch/>
        </p:blipFill>
        <p:spPr>
          <a:xfrm>
            <a:off x="4248000" y="3524400"/>
            <a:ext cx="4629240" cy="308592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122" name=""/>
          <p:cNvSpPr txBox="1"/>
          <p:nvPr/>
        </p:nvSpPr>
        <p:spPr>
          <a:xfrm rot="21359400">
            <a:off x="5843520" y="1472760"/>
            <a:ext cx="23907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2300" dir="836435" blurRad="0" rotWithShape="0">
                    <a:srgbClr val="ffffff"/>
                  </a:outerShdw>
                </a:effectLst>
                <a:latin typeface="Comic Sans MS"/>
              </a:rPr>
              <a:t>Mittags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2300" dir="836435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90440" y="4863960"/>
            <a:ext cx="22766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ffffff"/>
                  </a:outerShdw>
                </a:effectLst>
                <a:latin typeface="Comic Sans MS"/>
              </a:rPr>
              <a:t>Buc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3964" dir="18635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ittagsbucht-Schnorcheln-ML_1" descr=""/>
          <p:cNvPicPr/>
          <p:nvPr/>
        </p:nvPicPr>
        <p:blipFill>
          <a:blip r:embed="rId2"/>
          <a:stretch/>
        </p:blipFill>
        <p:spPr>
          <a:xfrm>
            <a:off x="3809880" y="3416400"/>
            <a:ext cx="5105520" cy="32274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25" name="Mittagsbucht-Schnorcheln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257800" cy="3570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26" name=""/>
          <p:cNvSpPr txBox="1"/>
          <p:nvPr/>
        </p:nvSpPr>
        <p:spPr>
          <a:xfrm rot="20716800">
            <a:off x="448920" y="2916360"/>
            <a:ext cx="845820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8455" dir="1236033" blurRad="0" rotWithShape="0">
                    <a:srgbClr val="ffffff"/>
                  </a:outerShdw>
                </a:effectLst>
                <a:latin typeface="Comic Sans MS"/>
              </a:rPr>
              <a:t>unsere Schnorchler . . 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8455" dir="123603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9000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teilhang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962520" cy="264168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28" name="Steilhang-Reini_1" descr=""/>
          <p:cNvPicPr/>
          <p:nvPr/>
        </p:nvPicPr>
        <p:blipFill>
          <a:blip r:embed="rId3"/>
          <a:stretch/>
        </p:blipFill>
        <p:spPr>
          <a:xfrm>
            <a:off x="4962600" y="247680"/>
            <a:ext cx="3933720" cy="2622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29" name="Steilhang-Chr-Mat_1" descr=""/>
          <p:cNvPicPr/>
          <p:nvPr/>
        </p:nvPicPr>
        <p:blipFill>
          <a:blip r:embed="rId4"/>
          <a:stretch/>
        </p:blipFill>
        <p:spPr>
          <a:xfrm>
            <a:off x="247680" y="3981600"/>
            <a:ext cx="3943440" cy="262872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30" name="Steilhang-Gorgonie_1" descr=""/>
          <p:cNvPicPr/>
          <p:nvPr/>
        </p:nvPicPr>
        <p:blipFill>
          <a:blip r:embed="rId5"/>
          <a:stretch/>
        </p:blipFill>
        <p:spPr>
          <a:xfrm>
            <a:off x="4971960" y="3981600"/>
            <a:ext cx="3943440" cy="262872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1581120" y="2876400"/>
            <a:ext cx="607716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66760" y="2959200"/>
            <a:ext cx="506736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59d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808080"/>
                  </a:outerShdw>
                </a:effectLst>
                <a:latin typeface="Comic Sans MS"/>
              </a:rPr>
              <a:t>Faszination Steilha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59d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52300" dir="836435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20800" y="3267000"/>
            <a:ext cx="577224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ffcc99"/>
                  </a:outerShdw>
                </a:effectLst>
                <a:latin typeface="Comic Sans MS"/>
              </a:rPr>
              <a:t>die Farbenpracht der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3500000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ffcc99"/>
                  </a:outerShdw>
                </a:effectLst>
                <a:latin typeface="Comic Sans MS"/>
              </a:rPr>
              <a:t>Korallen-Riffe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07932" dir="13500000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4" name="Korallenschlucht_9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4041720" cy="2741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35" name="Kante-Birgit_5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038480" cy="27669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36" name="Korallenkante_6" descr=""/>
          <p:cNvPicPr/>
          <p:nvPr/>
        </p:nvPicPr>
        <p:blipFill>
          <a:blip r:embed="rId4"/>
          <a:stretch/>
        </p:blipFill>
        <p:spPr>
          <a:xfrm>
            <a:off x="1600200" y="2514600"/>
            <a:ext cx="6095880" cy="41274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4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 rot="20575800">
            <a:off x="272520" y="417240"/>
            <a:ext cx="3500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Comic Sans MS"/>
              </a:rPr>
              <a:t>Makro-Aufnahme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240" y="495360"/>
            <a:ext cx="1876320" cy="2581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 rot="20903400">
            <a:off x="5781600" y="5921280"/>
            <a:ext cx="30574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Comic Sans MS"/>
              </a:rPr>
              <a:t>... nur wenige Millimeter gro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0" name="Nacktschnecke-weis_17" descr=""/>
          <p:cNvPicPr/>
          <p:nvPr/>
        </p:nvPicPr>
        <p:blipFill>
          <a:blip r:embed="rId3"/>
          <a:srcRect l="3321" t="0" r="6683" b="0"/>
          <a:stretch/>
        </p:blipFill>
        <p:spPr>
          <a:xfrm>
            <a:off x="2666880" y="1058760"/>
            <a:ext cx="4114800" cy="43084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41" name="Nacktschneck-weis_12" descr=""/>
          <p:cNvPicPr/>
          <p:nvPr/>
        </p:nvPicPr>
        <p:blipFill>
          <a:blip r:embed="rId4"/>
          <a:stretch/>
        </p:blipFill>
        <p:spPr>
          <a:xfrm>
            <a:off x="6024600" y="228600"/>
            <a:ext cx="2894040" cy="31240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42" name="schneck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517920" cy="23115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43" name=""/>
          <p:cNvSpPr txBox="1"/>
          <p:nvPr/>
        </p:nvSpPr>
        <p:spPr>
          <a:xfrm rot="20410800">
            <a:off x="4533840" y="4497480"/>
            <a:ext cx="413712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Comic Sans MS"/>
              </a:rPr>
              <a:t>Nacktschnecken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3333cc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19240" y="5391000"/>
            <a:ext cx="4991040" cy="1238400"/>
          </a:xfrm>
          <a:custGeom>
            <a:avLst/>
            <a:gdLst>
              <a:gd name="textAreaLeft" fmla="*/ 0 w 4991040"/>
              <a:gd name="textAreaRight" fmla="*/ 4991400 w 4991040"/>
              <a:gd name="textAreaTop" fmla="*/ 160560 h 1238400"/>
              <a:gd name="textAreaBottom" fmla="*/ 1077840 h 1238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38360" y="5478480"/>
            <a:ext cx="38577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Sep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  <p:pic>
        <p:nvPicPr>
          <p:cNvPr id="146" name="Sepia_23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315200" cy="49212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0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rachenkopf_2" descr=""/>
          <p:cNvPicPr/>
          <p:nvPr/>
        </p:nvPicPr>
        <p:blipFill>
          <a:blip r:embed="rId2"/>
          <a:stretch/>
        </p:blipFill>
        <p:spPr>
          <a:xfrm>
            <a:off x="4915080" y="228600"/>
            <a:ext cx="4000320" cy="26668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48" name="Drachenkopf_3" descr=""/>
          <p:cNvPicPr/>
          <p:nvPr/>
        </p:nvPicPr>
        <p:blipFill>
          <a:blip r:embed="rId3"/>
          <a:stretch/>
        </p:blipFill>
        <p:spPr>
          <a:xfrm>
            <a:off x="276120" y="228600"/>
            <a:ext cx="4010040" cy="26733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99192" dir="3018055" blurRad="0" rotWithShape="0">
              <a:srgbClr val="ffff00"/>
            </a:outerShdw>
          </a:effectLst>
        </p:spPr>
      </p:pic>
      <p:pic>
        <p:nvPicPr>
          <p:cNvPr id="149" name="Grundel_1" descr=""/>
          <p:cNvPicPr/>
          <p:nvPr/>
        </p:nvPicPr>
        <p:blipFill>
          <a:blip r:embed="rId4"/>
          <a:stretch/>
        </p:blipFill>
        <p:spPr>
          <a:xfrm>
            <a:off x="4838760" y="3962520"/>
            <a:ext cx="4000320" cy="26668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50" name="Grundel_2" descr=""/>
          <p:cNvPicPr/>
          <p:nvPr/>
        </p:nvPicPr>
        <p:blipFill>
          <a:blip r:embed="rId5"/>
          <a:stretch/>
        </p:blipFill>
        <p:spPr>
          <a:xfrm>
            <a:off x="228600" y="3956040"/>
            <a:ext cx="3981600" cy="26542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51" name="Baerenkrebs_1" descr=""/>
          <p:cNvPicPr/>
          <p:nvPr/>
        </p:nvPicPr>
        <p:blipFill>
          <a:blip r:embed="rId6"/>
          <a:srcRect l="8563" t="22852" r="0" b="0"/>
          <a:stretch/>
        </p:blipFill>
        <p:spPr>
          <a:xfrm>
            <a:off x="2781360" y="2666880"/>
            <a:ext cx="3657600" cy="20574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152" name=""/>
          <p:cNvSpPr txBox="1"/>
          <p:nvPr/>
        </p:nvSpPr>
        <p:spPr>
          <a:xfrm>
            <a:off x="2576520" y="247680"/>
            <a:ext cx="395280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64600" dir="674838" blurRad="0" rotWithShape="0">
                    <a:srgbClr val="ffffff"/>
                  </a:outerShdw>
                </a:effectLst>
                <a:latin typeface="Comic Sans MS"/>
              </a:rPr>
              <a:t>Drachenkop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64600" dir="67483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14480" y="5549760"/>
            <a:ext cx="366732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9d"/>
                </a:soli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Grun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9d"/>
              </a:soli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52680" y="2806560"/>
            <a:ext cx="283824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73964" dir="1863564" blurRad="0" rotWithShape="0">
                    <a:srgbClr val="ffffff"/>
                  </a:outerShdw>
                </a:effectLst>
                <a:latin typeface="Comic Sans MS"/>
              </a:rPr>
              <a:t>Bärenkre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73964" dir="18635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2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1871640" cy="1808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86600" y="3733920"/>
            <a:ext cx="1590840" cy="173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22860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38080" y="4492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24080" y="228600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 rot="21437400">
            <a:off x="3813120" y="289368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 rot="21450000">
            <a:off x="3504960" y="297180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 rot="500400">
            <a:off x="6248520" y="5305320"/>
            <a:ext cx="26604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83808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9" name="">
            <a:hlinkClick r:id="rId10"/>
          </p:cNvPr>
          <p:cNvSpPr/>
          <p:nvPr/>
        </p:nvSpPr>
        <p:spPr>
          <a:xfrm>
            <a:off x="2666880" y="4495680"/>
            <a:ext cx="3886200" cy="8384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19520" y="472428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2000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kto%20schwimmend_14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535560" cy="24130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56" name="Okto%20schwimmend_13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952880" cy="24321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57" name="Okto%20Stein_15" descr=""/>
          <p:cNvPicPr/>
          <p:nvPr/>
        </p:nvPicPr>
        <p:blipFill>
          <a:blip r:embed="rId4"/>
          <a:stretch/>
        </p:blipFill>
        <p:spPr>
          <a:xfrm>
            <a:off x="4038480" y="3782880"/>
            <a:ext cx="4876920" cy="28148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58" name="Okto%20Stein_16" descr=""/>
          <p:cNvPicPr/>
          <p:nvPr/>
        </p:nvPicPr>
        <p:blipFill>
          <a:blip r:embed="rId5"/>
          <a:srcRect l="9799" t="0" r="13722" b="0"/>
          <a:stretch/>
        </p:blipFill>
        <p:spPr>
          <a:xfrm>
            <a:off x="228600" y="3776760"/>
            <a:ext cx="3581280" cy="28764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2095560" y="2514600"/>
            <a:ext cx="5143320" cy="1695600"/>
          </a:xfrm>
          <a:prstGeom prst="irregularSeal1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 rot="21528600">
            <a:off x="3404880" y="2995200"/>
            <a:ext cx="235260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Comic Sans MS"/>
              </a:rPr>
              <a:t>Oktop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Comic Sans MS"/>
              <a:ea typeface="Comic Sans MS"/>
            </a:endParaRPr>
          </a:p>
        </p:txBody>
      </p:sp>
      <p:pic>
        <p:nvPicPr>
          <p:cNvPr id="161" name="Oktopus_1" descr=""/>
          <p:cNvPicPr/>
          <p:nvPr/>
        </p:nvPicPr>
        <p:blipFill>
          <a:blip r:embed="rId6"/>
          <a:stretch/>
        </p:blipFill>
        <p:spPr>
          <a:xfrm>
            <a:off x="2133720" y="1776240"/>
            <a:ext cx="4876560" cy="31784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9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oehle-Birgit_9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6553080" cy="44845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63" name="hohle-ein" descr=""/>
          <p:cNvPicPr/>
          <p:nvPr/>
        </p:nvPicPr>
        <p:blipFill>
          <a:blip r:embed="rId3"/>
          <a:stretch/>
        </p:blipFill>
        <p:spPr>
          <a:xfrm>
            <a:off x="5181480" y="228600"/>
            <a:ext cx="3721320" cy="24480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64" name="Kante-Sonnenstrahlen_8" descr=""/>
          <p:cNvPicPr/>
          <p:nvPr/>
        </p:nvPicPr>
        <p:blipFill>
          <a:blip r:embed="rId4"/>
          <a:stretch/>
        </p:blipFill>
        <p:spPr>
          <a:xfrm>
            <a:off x="5181480" y="3962520"/>
            <a:ext cx="3757680" cy="2628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65" name=""/>
          <p:cNvSpPr txBox="1"/>
          <p:nvPr/>
        </p:nvSpPr>
        <p:spPr>
          <a:xfrm rot="20603400">
            <a:off x="828720" y="2842920"/>
            <a:ext cx="8305920" cy="29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07932" dir="2700000" blurRad="0" rotWithShape="0">
                    <a:srgbClr val="ffcc99"/>
                  </a:outerShdw>
                </a:effectLst>
                <a:latin typeface="Comic Sans MS"/>
              </a:rPr>
              <a:t>Abenteuerliches Tauchen in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07932" dir="2700000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07932" dir="2700000" blurRad="0" rotWithShape="0">
                    <a:srgbClr val="ffcc99"/>
                  </a:outerShdw>
                </a:effectLst>
                <a:latin typeface="Comic Sans MS"/>
              </a:rPr>
              <a:t>Höhlen und Grotte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07932" dir="2700000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Hoehle-Kamin_3" descr=""/>
          <p:cNvPicPr/>
          <p:nvPr/>
        </p:nvPicPr>
        <p:blipFill>
          <a:blip r:embed="rId2"/>
          <a:stretch/>
        </p:blipFill>
        <p:spPr>
          <a:xfrm>
            <a:off x="228600" y="4254480"/>
            <a:ext cx="3505320" cy="2336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67" name="Hoehle-Kamin_4" descr=""/>
          <p:cNvPicPr/>
          <p:nvPr/>
        </p:nvPicPr>
        <p:blipFill>
          <a:blip r:embed="rId3"/>
          <a:stretch/>
        </p:blipFill>
        <p:spPr>
          <a:xfrm>
            <a:off x="6540480" y="3076560"/>
            <a:ext cx="2355840" cy="3533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68" name="Hoehle-Kamin-oben_2" descr=""/>
          <p:cNvPicPr/>
          <p:nvPr/>
        </p:nvPicPr>
        <p:blipFill>
          <a:blip r:embed="rId4"/>
          <a:stretch/>
        </p:blipFill>
        <p:spPr>
          <a:xfrm>
            <a:off x="4000680" y="228600"/>
            <a:ext cx="2381040" cy="35719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69" name="Tunnel_1" descr=""/>
          <p:cNvPicPr/>
          <p:nvPr/>
        </p:nvPicPr>
        <p:blipFill>
          <a:blip r:embed="rId5"/>
          <a:stretch/>
        </p:blipFill>
        <p:spPr>
          <a:xfrm>
            <a:off x="247680" y="228600"/>
            <a:ext cx="3514680" cy="23432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170" name=""/>
          <p:cNvSpPr txBox="1"/>
          <p:nvPr/>
        </p:nvSpPr>
        <p:spPr>
          <a:xfrm>
            <a:off x="433440" y="3062160"/>
            <a:ext cx="27334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89604" dir="18900000" blurRad="0" rotWithShape="0">
                    <a:srgbClr val="cc9900"/>
                  </a:outerShdw>
                </a:effectLst>
                <a:latin typeface="Comic Sans MS"/>
              </a:rPr>
              <a:t>Tauch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89604" dir="18900000" blurRad="0" rotWithShape="0">
                  <a:srgbClr val="cc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81880" y="600120"/>
            <a:ext cx="233352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73964" dir="19736436" blurRad="0" rotWithShape="0">
                    <a:srgbClr val="cc9900"/>
                  </a:outerShdw>
                </a:effectLst>
                <a:latin typeface="Comic Sans MS"/>
              </a:rPr>
              <a:t>in einem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73964" dir="19736436" blurRad="0" rotWithShape="0">
                  <a:srgbClr val="cc99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73964" dir="19736436" blurRad="0" rotWithShape="0">
                    <a:srgbClr val="cc9900"/>
                  </a:outerShdw>
                </a:effectLst>
                <a:latin typeface="Comic Sans MS"/>
              </a:rPr>
              <a:t>schmal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73964" dir="19736436" blurRad="0" rotWithShape="0">
                  <a:srgbClr val="cc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7480" y="4757760"/>
            <a:ext cx="221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cc9900"/>
                  </a:outerShdw>
                </a:effectLst>
                <a:latin typeface="Comic Sans MS"/>
              </a:rPr>
              <a:t>Kam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cc99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Wrack%20Aufbauten_2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019920" cy="40226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74" name="Wrack%20Aufbauten_25" descr=""/>
          <p:cNvPicPr/>
          <p:nvPr/>
        </p:nvPicPr>
        <p:blipFill>
          <a:blip r:embed="rId3"/>
          <a:stretch/>
        </p:blipFill>
        <p:spPr>
          <a:xfrm>
            <a:off x="3200400" y="2793960"/>
            <a:ext cx="5702400" cy="38386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75" name=""/>
          <p:cNvSpPr txBox="1"/>
          <p:nvPr/>
        </p:nvSpPr>
        <p:spPr>
          <a:xfrm rot="189000">
            <a:off x="4919400" y="538200"/>
            <a:ext cx="42242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5400000"/>
                </a:gradFill>
                <a:effectLst>
                  <a:outerShdw dist="85328" dir="14606097" blurRad="0" rotWithShape="0">
                    <a:srgbClr val="ffcc99"/>
                  </a:outerShdw>
                </a:effectLst>
                <a:latin typeface="Comic Sans MS"/>
              </a:rPr>
              <a:t>Abenteuer Wrack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993300"/>
                  </a:gs>
                </a:gsLst>
                <a:lin ang="5400000"/>
              </a:gradFill>
              <a:effectLst>
                <a:outerShdw dist="85328" dir="14606097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 rot="21115200">
            <a:off x="0" y="4743000"/>
            <a:ext cx="462132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5400000"/>
                </a:gradFill>
                <a:effectLst>
                  <a:outerShdw dist="85328" dir="6993903" blurRad="0" rotWithShape="0">
                    <a:srgbClr val="ffcc99"/>
                  </a:outerShdw>
                </a:effectLst>
                <a:latin typeface="Comic Sans MS"/>
              </a:rPr>
              <a:t>... die Schiffsaufbaut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993300"/>
                  </a:gs>
                </a:gsLst>
                <a:lin ang="5400000"/>
              </a:gradFill>
              <a:effectLst>
                <a:outerShdw dist="85328" dir="6993903" blurRad="0" rotWithShape="0">
                  <a:srgbClr val="ffcc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 rot="1677600">
            <a:off x="579240" y="2261880"/>
            <a:ext cx="7681680" cy="22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91658" dir="3382340" blurRad="0" rotWithShape="0">
                    <a:srgbClr val="ffffff"/>
                  </a:outerShdw>
                </a:effectLst>
                <a:latin typeface="Comic Sans MS"/>
              </a:rPr>
              <a:t>Wracktauch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91658" dir="338234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8" name="Wrack-Aufbauten_3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429080" cy="2952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79" name="Wrack-Aufbauten_1" descr=""/>
          <p:cNvPicPr/>
          <p:nvPr/>
        </p:nvPicPr>
        <p:blipFill>
          <a:blip r:embed="rId5"/>
          <a:stretch/>
        </p:blipFill>
        <p:spPr>
          <a:xfrm>
            <a:off x="1162080" y="1085760"/>
            <a:ext cx="4419720" cy="2946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80" name="Wrack-Bruecke_1" descr=""/>
          <p:cNvPicPr/>
          <p:nvPr/>
        </p:nvPicPr>
        <p:blipFill>
          <a:blip r:embed="rId6"/>
          <a:stretch/>
        </p:blipFill>
        <p:spPr>
          <a:xfrm>
            <a:off x="2228760" y="1886040"/>
            <a:ext cx="4429080" cy="2952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81" name="Wrack-Bruecke_2" descr=""/>
          <p:cNvPicPr/>
          <p:nvPr/>
        </p:nvPicPr>
        <p:blipFill>
          <a:blip r:embed="rId7"/>
          <a:stretch/>
        </p:blipFill>
        <p:spPr>
          <a:xfrm>
            <a:off x="3295800" y="2800440"/>
            <a:ext cx="4400280" cy="29336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82" name="Wrack-Heck-Reeling_1" descr=""/>
          <p:cNvPicPr/>
          <p:nvPr/>
        </p:nvPicPr>
        <p:blipFill>
          <a:blip r:embed="rId8"/>
          <a:stretch/>
        </p:blipFill>
        <p:spPr>
          <a:xfrm>
            <a:off x="4457880" y="3676680"/>
            <a:ext cx="4429080" cy="2952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83" name="Wrack-Mast_1" descr=""/>
          <p:cNvPicPr/>
          <p:nvPr/>
        </p:nvPicPr>
        <p:blipFill>
          <a:blip r:embed="rId9"/>
          <a:stretch/>
        </p:blipFill>
        <p:spPr>
          <a:xfrm>
            <a:off x="228600" y="2952720"/>
            <a:ext cx="243828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184" name="Wrack-Mast_2" descr=""/>
          <p:cNvPicPr/>
          <p:nvPr/>
        </p:nvPicPr>
        <p:blipFill>
          <a:blip r:embed="rId10"/>
          <a:stretch/>
        </p:blipFill>
        <p:spPr>
          <a:xfrm>
            <a:off x="6477120" y="247680"/>
            <a:ext cx="243828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</p:spTree>
  </p:cSld>
  <p:transition advTm="26000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Wrack%20Reling_27" descr=""/>
          <p:cNvPicPr/>
          <p:nvPr/>
        </p:nvPicPr>
        <p:blipFill>
          <a:blip r:embed="rId2"/>
          <a:srcRect l="5267" t="0" r="0" b="0"/>
          <a:stretch/>
        </p:blipFill>
        <p:spPr>
          <a:xfrm>
            <a:off x="4800600" y="3719520"/>
            <a:ext cx="4118040" cy="29224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86" name="Wrack%20Reling_30" descr=""/>
          <p:cNvPicPr/>
          <p:nvPr/>
        </p:nvPicPr>
        <p:blipFill>
          <a:blip r:embed="rId3"/>
          <a:stretch/>
        </p:blipFill>
        <p:spPr>
          <a:xfrm>
            <a:off x="228600" y="3692520"/>
            <a:ext cx="4267080" cy="29433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87" name="Wrack%20Seilwinde_28" descr=""/>
          <p:cNvPicPr/>
          <p:nvPr/>
        </p:nvPicPr>
        <p:blipFill>
          <a:blip r:embed="rId4"/>
          <a:stretch/>
        </p:blipFill>
        <p:spPr>
          <a:xfrm>
            <a:off x="4724280" y="228600"/>
            <a:ext cx="4181760" cy="27874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88" name="Wrack%20Reling_26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4191120" cy="28065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89" name="Wrack%20Heck" descr=""/>
          <p:cNvPicPr/>
          <p:nvPr/>
        </p:nvPicPr>
        <p:blipFill>
          <a:blip r:embed="rId6"/>
          <a:stretch/>
        </p:blipFill>
        <p:spPr>
          <a:xfrm>
            <a:off x="2819520" y="2382840"/>
            <a:ext cx="350208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190" name=""/>
          <p:cNvSpPr txBox="1"/>
          <p:nvPr/>
        </p:nvSpPr>
        <p:spPr>
          <a:xfrm>
            <a:off x="990720" y="2028960"/>
            <a:ext cx="760068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006600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Comic Sans MS"/>
              </a:rPr>
              <a:t>Das Vorderdeck-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006600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006600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Comic Sans MS"/>
              </a:rPr>
              <a:t>Winde und Reling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006600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419720" y="4024440"/>
            <a:ext cx="16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006600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Comic Sans MS"/>
              </a:rPr>
              <a:t>Heckteil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006600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5486400"/>
            <a:ext cx="647676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905120" y="5638680"/>
            <a:ext cx="5143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chwieriges Festmache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4" name="Christoph_Boot-festmachen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50418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95" name="ANKER" descr=""/>
          <p:cNvPicPr/>
          <p:nvPr/>
        </p:nvPicPr>
        <p:blipFill>
          <a:blip r:embed="rId3"/>
          <a:stretch/>
        </p:blipFill>
        <p:spPr>
          <a:xfrm>
            <a:off x="0" y="4800600"/>
            <a:ext cx="1542960" cy="2057400"/>
          </a:xfrm>
          <a:prstGeom prst="rect">
            <a:avLst/>
          </a:prstGeom>
          <a:ln w="0">
            <a:noFill/>
          </a:ln>
          <a:effectLst>
            <a:outerShdw dist="89808" dir="483908" blurRad="0" rotWithShape="0">
              <a:srgbClr val="ffffff"/>
            </a:outerShdw>
          </a:effectLst>
        </p:spPr>
      </p:pic>
      <p:pic>
        <p:nvPicPr>
          <p:cNvPr id="196" name="RETTRING" descr=""/>
          <p:cNvPicPr/>
          <p:nvPr/>
        </p:nvPicPr>
        <p:blipFill>
          <a:blip r:embed="rId4"/>
          <a:stretch/>
        </p:blipFill>
        <p:spPr>
          <a:xfrm>
            <a:off x="7375680" y="4876920"/>
            <a:ext cx="1768320" cy="1981080"/>
          </a:xfrm>
          <a:prstGeom prst="rect">
            <a:avLst/>
          </a:prstGeom>
          <a:ln w="0">
            <a:noFill/>
          </a:ln>
          <a:effectLst>
            <a:outerShdw dist="77353" dir="562478" blurRad="0" rotWithShape="0">
              <a:srgbClr val="808080"/>
            </a:outerShdw>
          </a:effectLst>
        </p:spPr>
      </p:pic>
    </p:spTree>
  </p:cSld>
  <p:transition advTm="9000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L_Poller_1" descr=""/>
          <p:cNvPicPr/>
          <p:nvPr/>
        </p:nvPicPr>
        <p:blipFill>
          <a:blip r:embed="rId2"/>
          <a:srcRect l="6226" t="14286" r="0" b="0"/>
          <a:stretch/>
        </p:blipFill>
        <p:spPr>
          <a:xfrm>
            <a:off x="609480" y="3886200"/>
            <a:ext cx="1905120" cy="26668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98" name="Titanik-ML_1" descr=""/>
          <p:cNvPicPr/>
          <p:nvPr/>
        </p:nvPicPr>
        <p:blipFill>
          <a:blip r:embed="rId3"/>
          <a:srcRect l="0" t="9094" r="0" b="0"/>
          <a:stretch/>
        </p:blipFill>
        <p:spPr>
          <a:xfrm>
            <a:off x="3925800" y="3886200"/>
            <a:ext cx="203832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199" name="Titanik-ML-Chr_3" descr=""/>
          <p:cNvPicPr/>
          <p:nvPr/>
        </p:nvPicPr>
        <p:blipFill>
          <a:blip r:embed="rId4"/>
          <a:stretch/>
        </p:blipFill>
        <p:spPr>
          <a:xfrm>
            <a:off x="6888240" y="3581280"/>
            <a:ext cx="2006640" cy="3027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200" name="Titan-ML_10" descr=""/>
          <p:cNvPicPr/>
          <p:nvPr/>
        </p:nvPicPr>
        <p:blipFill>
          <a:blip r:embed="rId5"/>
          <a:stretch/>
        </p:blipFill>
        <p:spPr>
          <a:xfrm>
            <a:off x="7234200" y="457200"/>
            <a:ext cx="1690560" cy="2514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201" name="Titan-ML_11" descr=""/>
          <p:cNvPicPr/>
          <p:nvPr/>
        </p:nvPicPr>
        <p:blipFill>
          <a:blip r:embed="rId6"/>
          <a:stretch/>
        </p:blipFill>
        <p:spPr>
          <a:xfrm>
            <a:off x="380880" y="380880"/>
            <a:ext cx="4267440" cy="32432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202" name=""/>
          <p:cNvSpPr/>
          <p:nvPr/>
        </p:nvSpPr>
        <p:spPr>
          <a:xfrm>
            <a:off x="5334120" y="228600"/>
            <a:ext cx="2438280" cy="1752480"/>
          </a:xfrm>
          <a:prstGeom prst="cloudCallout">
            <a:avLst>
              <a:gd name="adj1" fmla="val -78712"/>
              <a:gd name="adj2" fmla="val 32064"/>
            </a:avLst>
          </a:prstGeom>
          <a:gradFill rotWithShape="0">
            <a:gsLst>
              <a:gs pos="0">
                <a:srgbClr val="ccccff"/>
              </a:gs>
              <a:gs pos="100000">
                <a:srgbClr val="9c9c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 rot="2127600">
            <a:off x="1447560" y="1981080"/>
            <a:ext cx="6457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ccccff"/>
                    </a:gs>
                  </a:gsLst>
                  <a:lin ang="13500000"/>
                </a:gradFill>
                <a:effectLst>
                  <a:outerShdw dist="64600" dir="674838" blurRad="0" rotWithShape="0">
                    <a:srgbClr val="ccccff"/>
                  </a:outerShdw>
                </a:effectLst>
                <a:latin typeface="Comic Sans MS"/>
              </a:rPr>
              <a:t>Wrack für noch nicht Tau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ccccff"/>
                  </a:gs>
                </a:gsLst>
                <a:lin ang="13500000"/>
              </a:gradFill>
              <a:effectLst>
                <a:outerShdw dist="64600" dir="674838" blurRad="0" rotWithShape="0">
                  <a:srgbClr val="cccc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410080" y="457200"/>
            <a:ext cx="2229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6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der Trau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von d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Titani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21298200">
            <a:off x="3198960" y="430200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78000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066680" y="5335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 rot="20800200">
            <a:off x="5409720" y="1219320"/>
            <a:ext cx="25844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Logo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1592280" cy="15145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345924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9880" y="60948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Die Show beginnt ..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540240"/>
            <a:ext cx="4678200" cy="2936880"/>
          </a:xfrm>
          <a:prstGeom prst="cloudCallout">
            <a:avLst>
              <a:gd name="adj1" fmla="val -48134"/>
              <a:gd name="adj2" fmla="val -5426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508000">
            <a:off x="3492360" y="3897000"/>
            <a:ext cx="351504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. . .  mit 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isegruppe Spa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m Oktober 199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und Oktober 20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Kanonenrohr-Gruppe_32" descr=""/>
          <p:cNvPicPr/>
          <p:nvPr/>
        </p:nvPicPr>
        <p:blipFill>
          <a:blip r:embed="rId4"/>
          <a:srcRect l="5882" t="2866" r="7347" b="5955"/>
          <a:stretch/>
        </p:blipFill>
        <p:spPr>
          <a:xfrm>
            <a:off x="2819520" y="2666880"/>
            <a:ext cx="5029200" cy="3921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6948360" y="5486400"/>
            <a:ext cx="2195640" cy="866880"/>
          </a:xfrm>
          <a:custGeom>
            <a:avLst/>
            <a:gdLst>
              <a:gd name="textAreaLeft" fmla="*/ 343080 w 2195640"/>
              <a:gd name="textAreaRight" fmla="*/ 1921320 w 2195640"/>
              <a:gd name="textAreaTop" fmla="*/ 216720 h 866880"/>
              <a:gd name="textAreaBottom" fmla="*/ 650160 h 866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Kanone_ML" descr=""/>
          <p:cNvPicPr/>
          <p:nvPr/>
        </p:nvPicPr>
        <p:blipFill>
          <a:blip r:embed="rId6"/>
          <a:srcRect l="7476" t="3278" r="5294" b="8196"/>
          <a:stretch/>
        </p:blipFill>
        <p:spPr>
          <a:xfrm>
            <a:off x="609480" y="380880"/>
            <a:ext cx="2667240" cy="41148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ML-Pause_Stein" descr=""/>
          <p:cNvPicPr/>
          <p:nvPr/>
        </p:nvPicPr>
        <p:blipFill>
          <a:blip r:embed="rId2"/>
          <a:srcRect l="0" t="3287" r="0" b="0"/>
          <a:stretch/>
        </p:blipFill>
        <p:spPr>
          <a:xfrm>
            <a:off x="228600" y="2971800"/>
            <a:ext cx="5638680" cy="36450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69" name="Wanderung_Steinfeld_1" descr=""/>
          <p:cNvPicPr/>
          <p:nvPr/>
        </p:nvPicPr>
        <p:blipFill>
          <a:blip r:embed="rId3"/>
          <a:srcRect l="0" t="1442" r="0" b="0"/>
          <a:stretch/>
        </p:blipFill>
        <p:spPr>
          <a:xfrm>
            <a:off x="838080" y="2362320"/>
            <a:ext cx="5639040" cy="3695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70" name=""/>
          <p:cNvSpPr txBox="1"/>
          <p:nvPr/>
        </p:nvSpPr>
        <p:spPr>
          <a:xfrm rot="1897800">
            <a:off x="5714640" y="1981080"/>
            <a:ext cx="13622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40186" dir="1096358" blurRad="0" rotWithShape="0">
                    <a:srgbClr val="ffff00"/>
                  </a:outerShdw>
                </a:effectLst>
                <a:latin typeface="Comic Sans MS"/>
              </a:rPr>
              <a:t>na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40186" dir="1096358" blurRad="0" rotWithShape="0">
                  <a:srgbClr val="ffff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1" name="Wanderung_SteinWegweiser_1" descr=""/>
          <p:cNvPicPr/>
          <p:nvPr/>
        </p:nvPicPr>
        <p:blipFill>
          <a:blip r:embed="rId4"/>
          <a:stretch/>
        </p:blipFill>
        <p:spPr>
          <a:xfrm>
            <a:off x="1447920" y="1828800"/>
            <a:ext cx="5638680" cy="3684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72" name="Wanderung_Teich_1" descr=""/>
          <p:cNvPicPr/>
          <p:nvPr/>
        </p:nvPicPr>
        <p:blipFill>
          <a:blip r:embed="rId5"/>
          <a:srcRect l="0" t="1442" r="0" b="0"/>
          <a:stretch/>
        </p:blipFill>
        <p:spPr>
          <a:xfrm>
            <a:off x="2133720" y="1219320"/>
            <a:ext cx="5638680" cy="3695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73" name="Wanderung-Punat-Gruppe_1" descr=""/>
          <p:cNvPicPr/>
          <p:nvPr/>
        </p:nvPicPr>
        <p:blipFill>
          <a:blip r:embed="rId6"/>
          <a:stretch/>
        </p:blipFill>
        <p:spPr>
          <a:xfrm>
            <a:off x="2743200" y="762120"/>
            <a:ext cx="5638680" cy="36669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74" name="Wanderung-Punat-ML_1" descr=""/>
          <p:cNvPicPr/>
          <p:nvPr/>
        </p:nvPicPr>
        <p:blipFill>
          <a:blip r:embed="rId7"/>
          <a:srcRect l="0" t="5533" r="0" b="0"/>
          <a:stretch/>
        </p:blipFill>
        <p:spPr>
          <a:xfrm>
            <a:off x="3276720" y="228600"/>
            <a:ext cx="563868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75" name=""/>
          <p:cNvSpPr txBox="1"/>
          <p:nvPr/>
        </p:nvSpPr>
        <p:spPr>
          <a:xfrm rot="20386200">
            <a:off x="387000" y="502920"/>
            <a:ext cx="35226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2216091" blurRad="0" rotWithShape="0">
                    <a:srgbClr val="66ff33"/>
                  </a:outerShdw>
                </a:effectLst>
                <a:latin typeface="Comic Sans MS"/>
              </a:rPr>
              <a:t>Wanderung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63504" dir="2216091" blurRad="0" rotWithShape="0">
                  <a:srgbClr val="66ff33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 rot="20169600">
            <a:off x="6175080" y="5047920"/>
            <a:ext cx="2676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52300" dir="836435" blurRad="0" rotWithShape="0">
                    <a:srgbClr val="ff3300"/>
                  </a:outerShdw>
                </a:effectLst>
                <a:latin typeface="Comic Sans MS"/>
              </a:rPr>
              <a:t>Basca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52300" dir="836435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Wanderung_Nebel_1" descr=""/>
          <p:cNvPicPr/>
          <p:nvPr/>
        </p:nvPicPr>
        <p:blipFill>
          <a:blip r:embed="rId8"/>
          <a:srcRect l="12501" t="0" r="0" b="354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78" name=""/>
          <p:cNvSpPr txBox="1"/>
          <p:nvPr/>
        </p:nvSpPr>
        <p:spPr>
          <a:xfrm>
            <a:off x="609480" y="685800"/>
            <a:ext cx="51818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808080"/>
                    </a:gs>
                  </a:gsLst>
                  <a:lin ang="5400000"/>
                </a:gradFill>
                <a:effectLst>
                  <a:outerShdw dist="85328" dir="1593903" blurRad="0" rotWithShape="0">
                    <a:srgbClr val="ffffff"/>
                  </a:outerShdw>
                </a:effectLst>
                <a:latin typeface="Comic Sans MS"/>
              </a:rPr>
              <a:t>vom Nebel überrasc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effectLst>
                <a:outerShdw dist="85328" dir="159390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1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362320"/>
            <a:ext cx="8305560" cy="1981080"/>
          </a:xfrm>
          <a:prstGeom prst="cube">
            <a:avLst>
              <a:gd name="adj" fmla="val 7361"/>
            </a:avLst>
          </a:prstGeom>
          <a:gradFill rotWithShape="0">
            <a:gsLst>
              <a:gs pos="0">
                <a:srgbClr val="808080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2819520"/>
            <a:ext cx="7238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752929"/>
                    </a:gs>
                    <a:gs pos="100000">
                      <a:srgbClr val="ff5b5b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2700000" blurRad="0" rotWithShape="0">
                    <a:srgbClr val="ffffff"/>
                  </a:outerShdw>
                </a:effectLst>
                <a:latin typeface="Comic Sans MS"/>
              </a:rPr>
              <a:t>Bootspicknick</a:t>
            </a:r>
            <a:endParaRPr b="0" lang="en-US" sz="24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752929"/>
                  </a:gs>
                  <a:gs pos="100000">
                    <a:srgbClr val="ff5b5b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Bootspicknick%20Strand_31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381880" cy="5631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9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Hafenmauer-Picknick_35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5029200" cy="33796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83" name=""/>
          <p:cNvSpPr txBox="1"/>
          <p:nvPr/>
        </p:nvSpPr>
        <p:spPr>
          <a:xfrm rot="19808400">
            <a:off x="-223920" y="2361960"/>
            <a:ext cx="9367920" cy="18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6762" dir="1393594" blurRad="0" rotWithShape="0">
                    <a:srgbClr val="ffffff"/>
                  </a:outerShdw>
                </a:effectLst>
                <a:latin typeface="Comic Sans MS"/>
              </a:rPr>
              <a:t>Warten auf unser Tauchbo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6762" dir="139359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4" name="Hafen-Silo_1" descr=""/>
          <p:cNvPicPr/>
          <p:nvPr/>
        </p:nvPicPr>
        <p:blipFill>
          <a:blip r:embed="rId3"/>
          <a:stretch/>
        </p:blipFill>
        <p:spPr>
          <a:xfrm>
            <a:off x="2895480" y="2867040"/>
            <a:ext cx="5486400" cy="3776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0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4800600"/>
            <a:ext cx="4876920" cy="1676520"/>
          </a:xfrm>
          <a:custGeom>
            <a:avLst/>
            <a:gdLst>
              <a:gd name="textAreaLeft" fmla="*/ 197280 w 4876920"/>
              <a:gd name="textAreaRight" fmla="*/ 4679640 w 48769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6282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225" y="21600"/>
                </a:lnTo>
                <a:arcTo wR="3600" hR="3600" stAng="10800000" swAng="5400000"/>
                <a:lnTo>
                  <a:pt x="62825" y="3600"/>
                </a:lnTo>
                <a:arcTo wR="3600" hR="3600" stAng="5400000" swAng="5400000"/>
                <a:close/>
              </a:path>
            </a:pathLst>
          </a:cu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otsgruppe%20Ausfahrt_36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5791320" cy="38923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87" name="ML_Vorderdeck" descr=""/>
          <p:cNvPicPr/>
          <p:nvPr/>
        </p:nvPicPr>
        <p:blipFill>
          <a:blip r:embed="rId3"/>
          <a:srcRect l="20359" t="11736" r="12184" b="0"/>
          <a:stretch/>
        </p:blipFill>
        <p:spPr>
          <a:xfrm>
            <a:off x="5257800" y="3429000"/>
            <a:ext cx="3505320" cy="30621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sp>
        <p:nvSpPr>
          <p:cNvPr id="88" name=""/>
          <p:cNvSpPr txBox="1"/>
          <p:nvPr/>
        </p:nvSpPr>
        <p:spPr>
          <a:xfrm>
            <a:off x="457200" y="4876920"/>
            <a:ext cx="4495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c0099"/>
                  </a:outerShdw>
                </a:effectLst>
                <a:latin typeface="Comic Sans MS"/>
              </a:rPr>
              <a:t>Tauchausfahr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cc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28880" y="3029040"/>
            <a:ext cx="6895800" cy="8571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152880"/>
            <a:ext cx="5448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chwämme und Röhrentiere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1" name="durchsichtige%20Roehre_3" descr=""/>
          <p:cNvPicPr/>
          <p:nvPr/>
        </p:nvPicPr>
        <p:blipFill>
          <a:blip r:embed="rId2"/>
          <a:stretch/>
        </p:blipFill>
        <p:spPr>
          <a:xfrm>
            <a:off x="228600" y="4068720"/>
            <a:ext cx="3809880" cy="25844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92" name="gelber%20Schwamm_4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809880" cy="26082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93" name="Sandroehrenwuermer_18" descr=""/>
          <p:cNvPicPr/>
          <p:nvPr/>
        </p:nvPicPr>
        <p:blipFill>
          <a:blip r:embed="rId4"/>
          <a:stretch/>
        </p:blipFill>
        <p:spPr>
          <a:xfrm>
            <a:off x="5105520" y="4065480"/>
            <a:ext cx="3813120" cy="25876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  <p:pic>
        <p:nvPicPr>
          <p:cNvPr id="94" name="Roter%20Schwamm_10" descr=""/>
          <p:cNvPicPr/>
          <p:nvPr/>
        </p:nvPicPr>
        <p:blipFill>
          <a:blip r:embed="rId5"/>
          <a:stretch/>
        </p:blipFill>
        <p:spPr>
          <a:xfrm>
            <a:off x="5181480" y="228600"/>
            <a:ext cx="3721320" cy="25462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</p:pic>
    </p:spTree>
  </p:cSld>
  <p:transition advTm="18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elbe-Baumkoralle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076640" cy="271764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96" name="gelbe-Baumkoralle_2" descr=""/>
          <p:cNvPicPr/>
          <p:nvPr/>
        </p:nvPicPr>
        <p:blipFill>
          <a:blip r:embed="rId3"/>
          <a:stretch/>
        </p:blipFill>
        <p:spPr>
          <a:xfrm>
            <a:off x="4848120" y="228600"/>
            <a:ext cx="4067280" cy="271152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97" name="gelbe-Krustenanemone_1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4076640" cy="271764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pic>
        <p:nvPicPr>
          <p:cNvPr id="98" name="gelbe-Krustenanemone_3" descr=""/>
          <p:cNvPicPr/>
          <p:nvPr/>
        </p:nvPicPr>
        <p:blipFill>
          <a:blip r:embed="rId5"/>
          <a:stretch/>
        </p:blipFill>
        <p:spPr>
          <a:xfrm>
            <a:off x="4857840" y="3905280"/>
            <a:ext cx="4057560" cy="270504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89604" dir="2700000" blurRad="0" rotWithShape="0">
              <a:srgbClr val="ffff00"/>
            </a:outerShdw>
          </a:effectLst>
        </p:spPr>
      </p:pic>
      <p:sp>
        <p:nvSpPr>
          <p:cNvPr id="99" name=""/>
          <p:cNvSpPr/>
          <p:nvPr/>
        </p:nvSpPr>
        <p:spPr>
          <a:xfrm>
            <a:off x="1504800" y="2762280"/>
            <a:ext cx="6324840" cy="1238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67040" y="2940120"/>
            <a:ext cx="52099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808080"/>
                  </a:outerShdw>
                </a:effectLst>
                <a:latin typeface="Comic Sans MS"/>
              </a:rPr>
              <a:t>Bizarre Höhlengewäch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52300" dir="836435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24000" y="0"/>
            <a:ext cx="46576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cc9900"/>
                  </a:outerShdw>
                </a:effectLst>
                <a:latin typeface="Comic Sans MS"/>
              </a:rPr>
              <a:t>gelbe Baumkoral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2300" dir="836435" blurRad="0" rotWithShape="0">
                  <a:srgbClr val="cc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57240" y="5541840"/>
            <a:ext cx="437184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e59d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Krustenanemo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e59d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1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20:07:00Z</dcterms:created>
  <dc:creator>Lutz Drößler</dc:creator>
  <dc:description/>
  <dc:language>en-US</dc:language>
  <cp:lastModifiedBy>Lutz Drößler</cp:lastModifiedBy>
  <dcterms:modified xsi:type="dcterms:W3CDTF">2002-07-24T21:16:08Z</dcterms:modified>
  <cp:revision>14</cp:revision>
  <dc:subject/>
  <dc:title>PowerPoint-Präsentation</dc:title>
</cp:coreProperties>
</file>