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5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51.wmf" ContentType="image/x-wmf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4.wmf" ContentType="image/x-wmf"/>
  <Override PartName="/ppt/media/image10.jpeg" ContentType="image/jpeg"/>
  <Override PartName="/ppt/media/image29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8C5-2E13-46F2-B349-392554E1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244-B7A5-4A3C-973C-EC931B51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5F8-BED6-4C75-B2BD-E1F6A96F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AA9-A951-48C8-8EE3-614CFB2D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933-C855-4599-9A9A-44BA875F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4C8-4AEA-4ED8-944E-5DA50233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0AD-F378-4473-A8F7-DB0B6D5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845-52DC-4C19-B514-D4D4A7C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E45-F9AD-44E6-AF58-50D75F18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299-0B8F-462A-B377-5034BEF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E5A-D2D9-4962-8822-1949E78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11F-F0D0-4AD6-84E2-84B8343C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D07D-7FED-4E90-AF7A-E3095D0A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54.wmf"/><Relationship Id="rId7" Type="http://schemas.openxmlformats.org/officeDocument/2006/relationships/image" Target="../media/image53.jpeg"/><Relationship Id="rId8" Type="http://schemas.openxmlformats.org/officeDocument/2006/relationships/image" Target="../media/image55.wmf"/><Relationship Id="rId9" Type="http://schemas.openxmlformats.org/officeDocument/2006/relationships/image" Target="../media/image53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2520" y="2514600"/>
            <a:ext cx="990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3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2514600"/>
            <a:ext cx="990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590920"/>
            <a:ext cx="9144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45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S-Treppe_1" descr=""/>
          <p:cNvPicPr/>
          <p:nvPr/>
        </p:nvPicPr>
        <p:blipFill>
          <a:blip r:embed="rId2"/>
          <a:stretch/>
        </p:blipFill>
        <p:spPr>
          <a:xfrm>
            <a:off x="76320" y="76320"/>
            <a:ext cx="5943600" cy="396216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86" name="RS-Treppe-Lueftung_1" descr=""/>
          <p:cNvPicPr/>
          <p:nvPr/>
        </p:nvPicPr>
        <p:blipFill>
          <a:blip r:embed="rId3"/>
          <a:stretch/>
        </p:blipFill>
        <p:spPr>
          <a:xfrm>
            <a:off x="2971800" y="2717640"/>
            <a:ext cx="6095880" cy="40640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 rot="20440800">
            <a:off x="245880" y="1901880"/>
            <a:ext cx="860256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Treppenaufgang zur Brück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4114800"/>
            <a:ext cx="7924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Brücke - unter ihrer Last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zusammengebroche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9" name="RS-Durchgang_1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886200" cy="25909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90" name="RS-Durchgang_2" descr=""/>
          <p:cNvPicPr/>
          <p:nvPr/>
        </p:nvPicPr>
        <p:blipFill>
          <a:blip r:embed="rId3"/>
          <a:stretch/>
        </p:blipFill>
        <p:spPr>
          <a:xfrm>
            <a:off x="152280" y="101520"/>
            <a:ext cx="4876920" cy="325116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 rot="21423000">
            <a:off x="2438280" y="220932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urchgang in den Deckaufbauten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RS-Tuer_1" descr=""/>
          <p:cNvPicPr/>
          <p:nvPr/>
        </p:nvPicPr>
        <p:blipFill>
          <a:blip r:embed="rId4"/>
          <a:stretch/>
        </p:blipFill>
        <p:spPr>
          <a:xfrm>
            <a:off x="4343400" y="3556080"/>
            <a:ext cx="4724280" cy="31496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93" name="RS-Maschine-Eingang_1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4038840" cy="26924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94" name=""/>
          <p:cNvSpPr txBox="1"/>
          <p:nvPr/>
        </p:nvSpPr>
        <p:spPr>
          <a:xfrm>
            <a:off x="4419720" y="3657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Eingang zum Oberdeck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0160" y="5867280"/>
            <a:ext cx="3990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Zugang in den Maschinenraum 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76920" y="3962520"/>
            <a:ext cx="3124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bestimmten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39625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an Bord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29200" y="1981080"/>
            <a:ext cx="26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as Leben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981080"/>
            <a:ext cx="42386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inge die einst 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0" name="RS-Badewanne_1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343400" cy="28954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01" name="RS-Schraubstock_2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343400" cy="28954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02" name="RS-Kueche_1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4343400" cy="28954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03" name="RS-Kueche-Topf_2" descr=""/>
          <p:cNvPicPr/>
          <p:nvPr/>
        </p:nvPicPr>
        <p:blipFill>
          <a:blip r:embed="rId5"/>
          <a:stretch/>
        </p:blipFill>
        <p:spPr>
          <a:xfrm>
            <a:off x="4648320" y="3733920"/>
            <a:ext cx="4343400" cy="28954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 rot="555000">
            <a:off x="385560" y="2362320"/>
            <a:ext cx="3276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Badewann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95680" y="228600"/>
            <a:ext cx="4648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1062700"/>
                <a:gd name="adj2" fmla="val 81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Werkbank mi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Schraubstock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 rot="20662200">
            <a:off x="1447560" y="5562360"/>
            <a:ext cx="2895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Küchenherd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62720" y="58672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Kochtopf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2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800600" y="3886200"/>
            <a:ext cx="19051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Raum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3886200"/>
            <a:ext cx="36576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Maschinen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00600" y="2209680"/>
            <a:ext cx="781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im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2104920"/>
            <a:ext cx="32763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Laufrost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RS-Maschine-Rohre_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67080" cy="28447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13" name="RS-Maschine-Rohre_3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267080" cy="28447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14" name="RS-Maschine-Treppe_1" descr=""/>
          <p:cNvPicPr/>
          <p:nvPr/>
        </p:nvPicPr>
        <p:blipFill>
          <a:blip r:embed="rId4"/>
          <a:stretch/>
        </p:blipFill>
        <p:spPr>
          <a:xfrm>
            <a:off x="228600" y="3378240"/>
            <a:ext cx="4876920" cy="325116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15" name="RS-Maschine-Kurbelwelle_1" descr=""/>
          <p:cNvPicPr/>
          <p:nvPr/>
        </p:nvPicPr>
        <p:blipFill>
          <a:blip r:embed="rId5"/>
          <a:stretch/>
        </p:blipFill>
        <p:spPr>
          <a:xfrm>
            <a:off x="4038480" y="3378240"/>
            <a:ext cx="4876920" cy="325116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16" name=""/>
          <p:cNvSpPr txBox="1"/>
          <p:nvPr/>
        </p:nvSpPr>
        <p:spPr>
          <a:xfrm>
            <a:off x="1066680" y="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Rohrleitungen und Ventil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 rot="21063600">
            <a:off x="322200" y="5486400"/>
            <a:ext cx="36259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Treppe zu den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unteren Decks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 rot="21174600">
            <a:off x="5714640" y="5562360"/>
            <a:ext cx="3048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Kurbelwellen-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Lag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2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343400" y="426708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0" name="RS-Maschine_4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5029200" cy="33530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 rot="213600">
            <a:off x="157320" y="4648320"/>
            <a:ext cx="73864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Antriebsmaschin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2" name="RS-Maschine_2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5000" cy="38102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 rot="477600">
            <a:off x="5029200" y="914400"/>
            <a:ext cx="3657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Zylind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S-Oberlicht-Maschine_3" descr=""/>
          <p:cNvPicPr/>
          <p:nvPr/>
        </p:nvPicPr>
        <p:blipFill>
          <a:blip r:embed="rId2"/>
          <a:stretch/>
        </p:blipFill>
        <p:spPr>
          <a:xfrm>
            <a:off x="152280" y="127080"/>
            <a:ext cx="6553440" cy="43686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25" name="RS-Oberlicht-Maschine_2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553080" cy="46306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26" name="RS-Oberlicht_1" descr=""/>
          <p:cNvPicPr/>
          <p:nvPr/>
        </p:nvPicPr>
        <p:blipFill>
          <a:blip r:embed="rId4"/>
          <a:stretch/>
        </p:blipFill>
        <p:spPr>
          <a:xfrm>
            <a:off x="2514600" y="2362320"/>
            <a:ext cx="6553080" cy="43686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 rot="562800">
            <a:off x="152280" y="42670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Oberlicht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es Maschinenraumes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S-Winde_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715000" cy="38098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29" name=""/>
          <p:cNvSpPr txBox="1"/>
          <p:nvPr/>
        </p:nvSpPr>
        <p:spPr>
          <a:xfrm rot="643200">
            <a:off x="4225680" y="228240"/>
            <a:ext cx="476568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Seilwinden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0" name="RS-Winde_1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5181480" cy="345456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 rot="643200">
            <a:off x="255240" y="5500800"/>
            <a:ext cx="3951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am Heck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05320" y="548640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Rosalie-Moll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81280" y="990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7621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Heck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5" name="RS-Ruderanlage_1" descr=""/>
          <p:cNvPicPr/>
          <p:nvPr/>
        </p:nvPicPr>
        <p:blipFill>
          <a:blip r:embed="rId2"/>
          <a:stretch/>
        </p:blipFill>
        <p:spPr>
          <a:xfrm>
            <a:off x="152280" y="812880"/>
            <a:ext cx="2895840" cy="19303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36" name="RS-Ruderanlage_2" descr=""/>
          <p:cNvPicPr/>
          <p:nvPr/>
        </p:nvPicPr>
        <p:blipFill>
          <a:blip r:embed="rId3"/>
          <a:stretch/>
        </p:blipFill>
        <p:spPr>
          <a:xfrm>
            <a:off x="3124080" y="533520"/>
            <a:ext cx="2895840" cy="19303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37" name="RS-Ruder_1" descr=""/>
          <p:cNvPicPr/>
          <p:nvPr/>
        </p:nvPicPr>
        <p:blipFill>
          <a:blip r:embed="rId4"/>
          <a:stretch/>
        </p:blipFill>
        <p:spPr>
          <a:xfrm>
            <a:off x="6095880" y="228600"/>
            <a:ext cx="2895840" cy="19303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38" name="RS-Schraube_1" descr=""/>
          <p:cNvPicPr/>
          <p:nvPr/>
        </p:nvPicPr>
        <p:blipFill>
          <a:blip r:embed="rId5"/>
          <a:stretch/>
        </p:blipFill>
        <p:spPr>
          <a:xfrm>
            <a:off x="228600" y="3048120"/>
            <a:ext cx="2387520" cy="35812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139" name="RS-Schraube_2" descr=""/>
          <p:cNvPicPr/>
          <p:nvPr/>
        </p:nvPicPr>
        <p:blipFill>
          <a:blip r:embed="rId6"/>
          <a:stretch/>
        </p:blipFill>
        <p:spPr>
          <a:xfrm>
            <a:off x="3505320" y="3048120"/>
            <a:ext cx="5410080" cy="36068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 rot="21444000">
            <a:off x="230040" y="74160"/>
            <a:ext cx="7239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Ruderanlage und Rud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5715000"/>
            <a:ext cx="6095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Schraube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9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usstieg-Boot_1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4800600" cy="3200400"/>
          </a:xfrm>
          <a:prstGeom prst="rect">
            <a:avLst/>
          </a:prstGeom>
          <a:ln w="9360">
            <a:solidFill>
              <a:srgbClr val="ccff66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304920" y="-304920"/>
            <a:ext cx="48765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zurück zu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unserem Boo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3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1871640" cy="1807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81680" y="3276720"/>
            <a:ext cx="1590840" cy="173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24080" y="2438280"/>
            <a:ext cx="327672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 rot="21437400">
            <a:off x="3809880" y="304776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 rot="21450000">
            <a:off x="3504960" y="31240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 rot="500400">
            <a:off x="5410080" y="4726080"/>
            <a:ext cx="342900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mic Sans MS"/>
              </a:rPr>
              <a:t>ldroess@server1.rz.uni-leipzig.de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Comic Sans MS"/>
              </a:rPr>
              <a:t>ldroess@vlfbox.de</a:t>
            </a:r>
            <a:endParaRPr b="0" lang="en-US" sz="16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91440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6" name="">
            <a:hlinkClick r:id="rId10"/>
          </p:cNvPr>
          <p:cNvSpPr/>
          <p:nvPr/>
        </p:nvSpPr>
        <p:spPr>
          <a:xfrm>
            <a:off x="2666880" y="4572000"/>
            <a:ext cx="3886200" cy="838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19520" y="48006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 rot="439800">
            <a:off x="5410080" y="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 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14800" y="32004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v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49" name="dia-wrack1" descr=""/>
          <p:cNvPicPr/>
          <p:nvPr/>
        </p:nvPicPr>
        <p:blipFill>
          <a:blip r:embed="rId1"/>
          <a:stretch/>
        </p:blipFill>
        <p:spPr>
          <a:xfrm>
            <a:off x="2629080" y="1771560"/>
            <a:ext cx="3886200" cy="331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43200" y="1371600"/>
            <a:ext cx="380988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ine Diasho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52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29200" y="4572000"/>
            <a:ext cx="10666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90920" y="3124080"/>
            <a:ext cx="38862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Lutz Drößl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160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S-M_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895840" cy="19306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58" name="RS-Maschine_2" descr=""/>
          <p:cNvPicPr/>
          <p:nvPr/>
        </p:nvPicPr>
        <p:blipFill>
          <a:blip r:embed="rId3"/>
          <a:srcRect l="5000" t="0" r="12500" b="0"/>
          <a:stretch/>
        </p:blipFill>
        <p:spPr>
          <a:xfrm>
            <a:off x="6095880" y="1165320"/>
            <a:ext cx="2895840" cy="23400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228600" y="1981080"/>
            <a:ext cx="63244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Die Rosalie Moller - 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eines der schönsten 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Wracks im Roten Meer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304920"/>
            <a:ext cx="7086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Die Rosalie Moller wurde vermutlich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4267080"/>
            <a:ext cx="739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eine Breite von 16 Meter und 3699 BRT.</a:t>
            </a:r>
            <a:endParaRPr b="1" lang="en-US" sz="2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510552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Nun ruht die Rosalie Moller aufrecht</a:t>
            </a:r>
            <a:endParaRPr b="1" lang="en-US" sz="4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066680"/>
            <a:ext cx="701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am 6.10.1941, in der selben Nacht</a:t>
            </a:r>
            <a:endParaRPr b="1" lang="en-US" sz="2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1752480"/>
            <a:ext cx="54864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wie auch die Thistlegorm,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14600"/>
            <a:ext cx="8381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durch einen deutschen Bomber versenkt.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4290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Sie hatte eine Länge von 110 Meter,</a:t>
            </a:r>
            <a:endParaRPr b="1" lang="en-US" sz="2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5943600"/>
            <a:ext cx="8686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in einer Tiefe von 35 bis 45 Meter.</a:t>
            </a:r>
            <a:endParaRPr b="1" lang="en-US" sz="2000" spc="1" strike="noStrike">
              <a:ln w="255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u-Galamb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943600" cy="396252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69" name="Ausstieg-Juerg_1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3200400" cy="48006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228600" y="4419720"/>
            <a:ext cx="53341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Mit der Abu Galamb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zur Rosalie Moll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7120" y="380880"/>
            <a:ext cx="2438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28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Mai 2001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20914200">
            <a:off x="-69840" y="606600"/>
            <a:ext cx="9145440" cy="57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Das charackteristische "M"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auf dem Schornstein der Rosalie Moller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Leider wurde der Schornstein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durch Festmachen eines Safaribootes abgerissen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und liegt jetzt zerbrochen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auf dem Oberdeck.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152280"/>
            <a:ext cx="8077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... entlang an Poller und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Bord-Reling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4" name="RS-Reeling_1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6477120" cy="43182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75" name="RS-Reeling-Christoph_1" descr=""/>
          <p:cNvPicPr/>
          <p:nvPr/>
        </p:nvPicPr>
        <p:blipFill>
          <a:blip r:embed="rId3"/>
          <a:stretch/>
        </p:blipFill>
        <p:spPr>
          <a:xfrm>
            <a:off x="2514600" y="2438280"/>
            <a:ext cx="6477120" cy="43182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76" name="RS-Reeling-Christoph_2" descr=""/>
          <p:cNvPicPr/>
          <p:nvPr/>
        </p:nvPicPr>
        <p:blipFill>
          <a:blip r:embed="rId4"/>
          <a:stretch/>
        </p:blipFill>
        <p:spPr>
          <a:xfrm>
            <a:off x="2514600" y="2438280"/>
            <a:ext cx="6477120" cy="43182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</p:spTree>
  </p:cSld>
  <p:transition advTm="2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S-Anker_1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4343400" cy="28958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78" name="RS-Anker_2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4343400" cy="28958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79" name="RS-Ankerwinde_1" descr=""/>
          <p:cNvPicPr/>
          <p:nvPr/>
        </p:nvPicPr>
        <p:blipFill>
          <a:blip r:embed="rId4"/>
          <a:stretch/>
        </p:blipFill>
        <p:spPr>
          <a:xfrm>
            <a:off x="4648320" y="152280"/>
            <a:ext cx="4343400" cy="28958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80" name="RS-Ankerwinde_2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4343400" cy="289584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1066680" y="274320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Anker und Ankerwinde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556272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8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66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Bug der Rosalie Moller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66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RS-Bug_1" descr=""/>
          <p:cNvPicPr/>
          <p:nvPr/>
        </p:nvPicPr>
        <p:blipFill>
          <a:blip r:embed="rId2"/>
          <a:srcRect l="9252" t="0" r="9252" b="0"/>
          <a:stretch/>
        </p:blipFill>
        <p:spPr>
          <a:xfrm>
            <a:off x="152280" y="152280"/>
            <a:ext cx="3657600" cy="299268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  <p:pic>
        <p:nvPicPr>
          <p:cNvPr id="84" name="RS-Bug_3" descr=""/>
          <p:cNvPicPr/>
          <p:nvPr/>
        </p:nvPicPr>
        <p:blipFill>
          <a:blip r:embed="rId3"/>
          <a:srcRect l="0" t="0" r="2047" b="0"/>
          <a:stretch/>
        </p:blipFill>
        <p:spPr>
          <a:xfrm>
            <a:off x="5334120" y="152280"/>
            <a:ext cx="3657600" cy="2986200"/>
          </a:xfrm>
          <a:prstGeom prst="rect">
            <a:avLst/>
          </a:prstGeom>
          <a:ln w="38160">
            <a:solidFill>
              <a:srgbClr val="ccff66"/>
            </a:solidFill>
            <a:miter/>
          </a:ln>
        </p:spPr>
      </p:pic>
    </p:spTree>
  </p:cSld>
  <p:transition advTm="1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2T20:48:53Z</dcterms:created>
  <dc:creator>Lutz Drößler</dc:creator>
  <dc:description/>
  <dc:language>en-US</dc:language>
  <cp:lastModifiedBy>Lutz Drößler</cp:lastModifiedBy>
  <dcterms:modified xsi:type="dcterms:W3CDTF">2002-01-17T20:10:51Z</dcterms:modified>
  <cp:revision>26</cp:revision>
  <dc:subject/>
  <dc:title>PowerPoint-Präsentation</dc:title>
</cp:coreProperties>
</file>