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20.jpeg" ContentType="image/jpeg"/>
  <Override PartName="/ppt/media/image26.jpeg" ContentType="image/jpeg"/>
  <Override PartName="/ppt/media/image5.jpeg" ContentType="image/jpeg"/>
  <Override PartName="/ppt/media/image1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31.wmf" ContentType="image/x-wmf"/>
  <Override PartName="/ppt/media/image7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12.jpeg" ContentType="image/jpeg"/>
  <Override PartName="/ppt/media/image34.wmf" ContentType="image/x-wmf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3.gif" ContentType="image/gif"/>
  <Override PartName="/ppt/media/image23.jpeg" ContentType="image/jpeg"/>
  <Override PartName="/ppt/media/image11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36EE-FB4D-4B0E-A3E1-F4021F5D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1431-23FB-41F9-93BA-AF1E48B6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007F-1BFB-4A10-9260-74C5D4AA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D556-8712-4843-A633-316D48A9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EFB5-BC2D-46F8-B04F-6572FAE1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D87E-A84A-4868-8086-B707DBD6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FBC3-6D6A-4AD9-8531-B8D94E05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9952-D55B-4A47-AB31-B9856D2E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62B9-FA3A-453F-8552-E33DEE36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FCD8-57B3-4D15-AC2F-0C49EB6B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6B7C-3195-4839-8D5D-81F9F858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0D29-C802-4306-B956-C4FBB630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AE7B-6FFE-4EE6-8929-5E8B4B1C4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jpeg"/><Relationship Id="rId4" Type="http://schemas.openxmlformats.org/officeDocument/2006/relationships/image" Target="../media/image33.jpeg"/><Relationship Id="rId5" Type="http://schemas.openxmlformats.org/officeDocument/2006/relationships/image" Target="../media/image34.wmf"/><Relationship Id="rId6" Type="http://schemas.openxmlformats.org/officeDocument/2006/relationships/image" Target="../media/image33.jpeg"/><Relationship Id="rId7" Type="http://schemas.openxmlformats.org/officeDocument/2006/relationships/image" Target="../media/image35.wmf"/><Relationship Id="rId8" Type="http://schemas.openxmlformats.org/officeDocument/2006/relationships/image" Target="../media/image33.jpeg"/><Relationship Id="rId9" Type="http://schemas.openxmlformats.org/officeDocument/2006/relationships/hyperlink" Target="http://www.lutzdroessler.de/" TargetMode="External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62520" y="2514600"/>
            <a:ext cx="990360" cy="16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0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3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038480" y="2514600"/>
            <a:ext cx="99072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9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2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114800" y="2590920"/>
            <a:ext cx="91440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9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1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620120" y="6553080"/>
            <a:ext cx="1295280" cy="171720"/>
            <a:chOff x="7620120" y="6553080"/>
            <a:chExt cx="1295280" cy="171720"/>
          </a:xfrm>
        </p:grpSpPr>
        <p:sp>
          <p:nvSpPr>
            <p:cNvPr id="45" name=""/>
            <p:cNvSpPr txBox="1"/>
            <p:nvPr/>
          </p:nvSpPr>
          <p:spPr>
            <a:xfrm>
              <a:off x="7620120" y="6553080"/>
              <a:ext cx="552240" cy="17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Copyrihgt</a:t>
              </a:r>
              <a:endParaRPr b="0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8305920" y="6553080"/>
              <a:ext cx="22860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LD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8667720" y="6553080"/>
              <a:ext cx="2476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2001</a:t>
              </a:r>
              <a:endParaRPr b="0" lang="en-US" sz="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</p:spTree>
  </p:cSld>
  <p:transition advTm="3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orsten-Katja" descr=""/>
          <p:cNvPicPr/>
          <p:nvPr/>
        </p:nvPicPr>
        <p:blipFill>
          <a:blip r:embed="rId1"/>
          <a:srcRect l="5923" t="0" r="5188" b="0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228600"/>
            <a:ext cx="8305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effectLst>
                  <a:outerShdw dist="81185" dir="18521970" blurRad="0" rotWithShape="0">
                    <a:srgbClr val="0066ff"/>
                  </a:outerShdw>
                </a:effectLst>
                <a:latin typeface="Comic Sans MS"/>
              </a:rPr>
              <a:t>Tauchen in den Tiefen des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3333cc"/>
              </a:solidFill>
              <a:effectLst>
                <a:outerShdw dist="81185" dir="18521970" blurRad="0" rotWithShape="0">
                  <a:srgbClr val="0066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effectLst>
                  <a:outerShdw dist="81185" dir="18521970" blurRad="0" rotWithShape="0">
                    <a:srgbClr val="0066ff"/>
                  </a:outerShdw>
                </a:effectLst>
                <a:latin typeface="Comic Sans MS"/>
              </a:rPr>
              <a:t>Mittelmeeres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3333cc"/>
              </a:solidFill>
              <a:effectLst>
                <a:outerShdw dist="81185" dir="18521970" blurRad="0" rotWithShape="0">
                  <a:srgbClr val="0066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8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Seegras-Juergen_2" descr=""/>
          <p:cNvPicPr/>
          <p:nvPr/>
        </p:nvPicPr>
        <p:blipFill>
          <a:blip r:embed="rId1"/>
          <a:srcRect l="5932" t="0" r="5191" b="0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2057400" y="5486400"/>
            <a:ext cx="5105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2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8000"/>
                </a:solidFill>
                <a:effectLst>
                  <a:outerShdw dist="89604" dir="18900000" blurRad="0" rotWithShape="0">
                    <a:srgbClr val="ffffff"/>
                  </a:outerShdw>
                </a:effectLst>
                <a:latin typeface="Comic Sans MS"/>
              </a:rPr>
              <a:t>kleine Höhlen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008000"/>
              </a:solidFill>
              <a:effectLst>
                <a:outerShdw dist="89604" dir="189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9" name="Netz-Juergen_1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8686800" cy="5789520"/>
          </a:xfrm>
          <a:prstGeom prst="rect">
            <a:avLst/>
          </a:prstGeom>
          <a:ln w="38160">
            <a:solidFill>
              <a:srgbClr val="f3c95f"/>
            </a:solidFill>
            <a:miter/>
          </a:ln>
        </p:spPr>
      </p:pic>
      <p:sp>
        <p:nvSpPr>
          <p:cNvPr id="100" name=""/>
          <p:cNvSpPr txBox="1"/>
          <p:nvPr/>
        </p:nvSpPr>
        <p:spPr>
          <a:xfrm>
            <a:off x="380880" y="50292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8000"/>
                </a:solidFill>
                <a:effectLst>
                  <a:outerShdw dist="53966" dir="18900000" blurRad="0" rotWithShape="0">
                    <a:srgbClr val="ffffff"/>
                  </a:outerShdw>
                </a:effectLst>
                <a:latin typeface="Comic Sans MS"/>
              </a:rPr>
              <a:t>... und schaukelnde Seegraswiesen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008000"/>
              </a:solidFill>
              <a:effectLst>
                <a:outerShdw dist="53966" dir="189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838080"/>
            <a:ext cx="4038840" cy="7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effectLst>
                  <a:outerShdw dist="40186" dir="17296359" blurRad="0" rotWithShape="0">
                    <a:srgbClr val="ffffff"/>
                  </a:outerShdw>
                </a:effectLst>
                <a:latin typeface="Comic Sans MS"/>
              </a:rPr>
              <a:t>alte Fischernetze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3333cc"/>
              </a:solidFill>
              <a:effectLst>
                <a:outerShdw dist="40186" dir="17296359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7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kti_1" descr=""/>
          <p:cNvPicPr/>
          <p:nvPr/>
        </p:nvPicPr>
        <p:blipFill>
          <a:blip r:embed="rId1"/>
          <a:srcRect l="9626" t="0" r="148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990720" y="228600"/>
            <a:ext cx="7238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993300"/>
                </a:solidFill>
                <a:effectLst>
                  <a:outerShdw dist="125751" dir="18900000" blurRad="0" rotWithShape="0">
                    <a:srgbClr val="ffffff"/>
                  </a:outerShdw>
                </a:effectLst>
                <a:latin typeface="Comic Sans MS"/>
              </a:rPr>
              <a:t>Oktopus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993300"/>
              </a:solidFill>
              <a:effectLst>
                <a:outerShdw dist="125751" dir="189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8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Wrack-Sabine_1" descr=""/>
          <p:cNvPicPr/>
          <p:nvPr/>
        </p:nvPicPr>
        <p:blipFill>
          <a:blip r:embed="rId1"/>
          <a:srcRect l="8890" t="0" r="2223" b="0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685800" y="304920"/>
            <a:ext cx="7620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71785" dir="18900000" blurRad="0" rotWithShape="0">
                    <a:srgbClr val="ffffff"/>
                  </a:outerShdw>
                </a:effectLst>
                <a:latin typeface="Comic Sans MS"/>
              </a:rPr>
              <a:t>das Wrack der ENTELLA</a:t>
            </a:r>
            <a:endParaRPr b="1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71785" dir="189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6" name="Wrack-Christoph_1" descr=""/>
          <p:cNvPicPr/>
          <p:nvPr/>
        </p:nvPicPr>
        <p:blipFill>
          <a:blip r:embed="rId2"/>
          <a:srcRect l="5923" t="0" r="5188" b="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304920" y="228600"/>
            <a:ext cx="624816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5400"/>
                </a:solidFill>
                <a:effectLst>
                  <a:outerShdw dist="71785" dir="18900000" blurRad="0" rotWithShape="0">
                    <a:srgbClr val="ffffff"/>
                  </a:outerShdw>
                </a:effectLst>
                <a:latin typeface="Comic Sans MS"/>
              </a:rPr>
              <a:t>alter Kohlefrachter ...</a:t>
            </a:r>
            <a:endParaRPr b="1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005400"/>
              </a:solidFill>
              <a:effectLst>
                <a:outerShdw dist="71785" dir="189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81080" y="5486400"/>
            <a:ext cx="675324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5400"/>
                </a:solidFill>
                <a:effectLst>
                  <a:outerShdw dist="89604" dir="18900000" blurRad="0" rotWithShape="0">
                    <a:srgbClr val="ffffff"/>
                  </a:outerShdw>
                </a:effectLst>
                <a:latin typeface="Comic Sans MS"/>
              </a:rPr>
              <a:t>... aber sehr zerfallen</a:t>
            </a:r>
            <a:endParaRPr b="1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005400"/>
              </a:solidFill>
              <a:effectLst>
                <a:outerShdw dist="89604" dir="189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6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Isonzo-Reeling_1" descr=""/>
          <p:cNvPicPr/>
          <p:nvPr/>
        </p:nvPicPr>
        <p:blipFill>
          <a:blip r:embed="rId1"/>
          <a:srcRect l="5933" t="0" r="5183" b="0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4120" y="380880"/>
            <a:ext cx="3429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ccff"/>
                </a:solidFill>
                <a:effectLst>
                  <a:outerShdw dist="71785" dir="18900000" blurRad="0" rotWithShape="0">
                    <a:srgbClr val="ffffff"/>
                  </a:outerShdw>
                </a:effectLst>
                <a:latin typeface="Comic Sans MS"/>
              </a:rPr>
              <a:t>die ISONZO</a:t>
            </a:r>
            <a:endParaRPr b="1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00ccff"/>
              </a:solidFill>
              <a:effectLst>
                <a:outerShdw dist="71785" dir="189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5257800"/>
            <a:ext cx="8001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71785" dir="18900000" blurRad="0" rotWithShape="0">
                    <a:srgbClr val="b2b2b2"/>
                  </a:outerShdw>
                </a:effectLst>
                <a:latin typeface="Comic Sans MS"/>
              </a:rPr>
              <a:t>ein umgebautes Militärschiff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71785" dir="18900000" blurRad="0" rotWithShape="0">
                  <a:srgbClr val="b2b2b2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2" name="Isonzo-Kanone_1" descr=""/>
          <p:cNvPicPr/>
          <p:nvPr/>
        </p:nvPicPr>
        <p:blipFill>
          <a:blip r:embed="rId2"/>
          <a:srcRect l="5931" t="0" r="5191" b="0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5257800"/>
            <a:ext cx="838188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9184" dir="19471693" blurRad="0" rotWithShape="0">
                    <a:srgbClr val="ffffff"/>
                  </a:outerShdw>
                </a:effectLst>
                <a:latin typeface="Comic Sans MS"/>
              </a:rPr>
              <a:t>Schiffskanon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09184" dir="19471693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7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Isonzo-Zwillingsflagg_2" descr=""/>
          <p:cNvPicPr/>
          <p:nvPr/>
        </p:nvPicPr>
        <p:blipFill>
          <a:blip r:embed="rId1"/>
          <a:srcRect l="8892" t="0" r="2219" b="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1219320" y="228600"/>
            <a:ext cx="419076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gut erhalten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733920" y="4419720"/>
            <a:ext cx="510516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33ccff"/>
                </a:solidFill>
                <a:effectLst>
                  <a:outerShdw dist="89604" dir="18900000" blurRad="0" rotWithShape="0">
                    <a:srgbClr val="6699ff"/>
                  </a:outerShdw>
                </a:effectLst>
                <a:latin typeface="Comic Sans MS"/>
              </a:rPr>
              <a:t>die Zwillingsflagg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33ccff"/>
              </a:solidFill>
              <a:effectLst>
                <a:outerShdw dist="89604" dir="189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33ccff"/>
                </a:solidFill>
                <a:effectLst>
                  <a:outerShdw dist="89604" dir="18900000" blurRad="0" rotWithShape="0">
                    <a:srgbClr val="6699ff"/>
                  </a:outerShdw>
                </a:effectLst>
                <a:latin typeface="Comic Sans MS"/>
              </a:rPr>
              <a:t>der ISONZO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33ccff"/>
              </a:solidFill>
              <a:effectLst>
                <a:outerShdw dist="89604" dir="189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7" name="Isonzo-Zwillingsflagg_1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334120" cy="3557520"/>
          </a:xfrm>
          <a:prstGeom prst="rect">
            <a:avLst/>
          </a:prstGeom>
          <a:ln w="38160">
            <a:solidFill>
              <a:srgbClr val="f3c95f"/>
            </a:solidFill>
            <a:miter/>
          </a:ln>
        </p:spPr>
      </p:pic>
      <p:pic>
        <p:nvPicPr>
          <p:cNvPr id="118" name="Isonzo-Zwillingsflagg-Guide_1" descr=""/>
          <p:cNvPicPr/>
          <p:nvPr/>
        </p:nvPicPr>
        <p:blipFill>
          <a:blip r:embed="rId3"/>
          <a:stretch/>
        </p:blipFill>
        <p:spPr>
          <a:xfrm>
            <a:off x="3429000" y="2971800"/>
            <a:ext cx="5497560" cy="3665520"/>
          </a:xfrm>
          <a:prstGeom prst="rect">
            <a:avLst/>
          </a:prstGeom>
          <a:ln w="38160">
            <a:solidFill>
              <a:srgbClr val="f3c95f"/>
            </a:solidFill>
            <a:miter/>
          </a:ln>
        </p:spPr>
      </p:pic>
    </p:spTree>
  </p:cSld>
  <p:transition advTm="19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Deko-Stopp" descr=""/>
          <p:cNvPicPr/>
          <p:nvPr/>
        </p:nvPicPr>
        <p:blipFill>
          <a:blip r:embed="rId1"/>
          <a:srcRect l="8156" t="0" r="2959" b="0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228600" y="380880"/>
            <a:ext cx="86104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effectLst>
                  <a:outerShdw dist="99192" dir="18581945" blurRad="0" rotWithShape="0">
                    <a:srgbClr val="0066ff"/>
                  </a:outerShdw>
                </a:effectLst>
                <a:latin typeface="Comic Sans MS"/>
              </a:rPr>
              <a:t>12 Taucher beim Deko-Stopp auf 3 m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3333cc"/>
              </a:solidFill>
              <a:effectLst>
                <a:outerShdw dist="99192" dir="18581945" blurRad="0" rotWithShape="0">
                  <a:srgbClr val="0066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8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500120" y="1219320"/>
            <a:ext cx="650088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77353" dir="562478" blurRad="0" rotWithShape="0">
                    <a:srgbClr val="ffffff"/>
                  </a:outerShdw>
                </a:effectLst>
                <a:latin typeface="Comic Sans MS"/>
              </a:rPr>
              <a:t>Eine Dia-Show</a:t>
            </a:r>
            <a:endParaRPr b="1" lang="en-US" sz="6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77353" dir="56247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77353" dir="562478" blurRad="0" rotWithShape="0">
                    <a:srgbClr val="ffffff"/>
                  </a:outerShdw>
                </a:effectLst>
                <a:latin typeface="Comic Sans MS"/>
              </a:rPr>
              <a:t>von</a:t>
            </a:r>
            <a:endParaRPr b="1" lang="en-US" sz="6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77353" dir="56247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77353" dir="562478" blurRad="0" rotWithShape="0">
                    <a:srgbClr val="ffffff"/>
                  </a:outerShdw>
                </a:effectLst>
                <a:latin typeface="Comic Sans MS"/>
              </a:rPr>
              <a:t>Lutz Drößler </a:t>
            </a:r>
            <a:endParaRPr b="1" lang="en-US" sz="6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77353" dir="56247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3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400800" y="1219320"/>
            <a:ext cx="1871640" cy="1807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781680" y="3276720"/>
            <a:ext cx="1590840" cy="1733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04920" y="3124080"/>
            <a:ext cx="2438280" cy="1828800"/>
          </a:xfrm>
          <a:prstGeom prst="cloudCallout">
            <a:avLst>
              <a:gd name="adj1" fmla="val 32097"/>
              <a:gd name="adj2" fmla="val 10277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 rot="439800">
            <a:off x="5410080" y="-228600"/>
            <a:ext cx="3313080" cy="16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chönefelder Allee 12</a:t>
            </a:r>
            <a:endParaRPr b="0" lang="en-US" sz="14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04347 Leipzig</a:t>
            </a:r>
            <a:endParaRPr b="0" lang="en-US" sz="14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304920"/>
            <a:ext cx="2514600" cy="2057400"/>
          </a:xfrm>
          <a:prstGeom prst="cloudCallout">
            <a:avLst>
              <a:gd name="adj1" fmla="val 72032"/>
              <a:gd name="adj2" fmla="val 5408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143000" y="457200"/>
            <a:ext cx="1600200" cy="1447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124080" y="2438280"/>
            <a:ext cx="3276720" cy="18288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 rot="21437400">
            <a:off x="3809880" y="3047760"/>
            <a:ext cx="1830600" cy="531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36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fotografie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v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30" name=""/>
          <p:cNvSpPr txBox="1"/>
          <p:nvPr/>
        </p:nvSpPr>
        <p:spPr>
          <a:xfrm rot="21450000">
            <a:off x="3504960" y="3124080"/>
            <a:ext cx="2636640" cy="763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3857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Lutz Drößl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31" name=""/>
          <p:cNvSpPr txBox="1"/>
          <p:nvPr/>
        </p:nvSpPr>
        <p:spPr>
          <a:xfrm rot="500400">
            <a:off x="5410080" y="4726080"/>
            <a:ext cx="3429000" cy="21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e-mail</a:t>
            </a:r>
            <a:endParaRPr b="0" lang="en-US" sz="16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ldroess@server1.rz.uni-leipzig.de</a:t>
            </a:r>
            <a:endParaRPr b="0" lang="en-US" sz="16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ldroess@vlfbox.de</a:t>
            </a:r>
            <a:endParaRPr b="0" lang="en-US" sz="16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914400" y="3505320"/>
            <a:ext cx="1219320" cy="1049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19320" y="6019920"/>
            <a:ext cx="327636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05120" y="6172200"/>
            <a:ext cx="2133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0341 23209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35" name="">
            <a:hlinkClick r:id="rId9"/>
          </p:cNvPr>
          <p:cNvSpPr/>
          <p:nvPr/>
        </p:nvSpPr>
        <p:spPr>
          <a:xfrm>
            <a:off x="2666880" y="4572000"/>
            <a:ext cx="3886200" cy="8380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819520" y="4800600"/>
            <a:ext cx="3581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ww.lutzdroessler.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p:transition advTm="12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7620120" y="6553080"/>
            <a:ext cx="1295280" cy="171720"/>
            <a:chOff x="7620120" y="6553080"/>
            <a:chExt cx="1295280" cy="171720"/>
          </a:xfrm>
        </p:grpSpPr>
        <p:sp>
          <p:nvSpPr>
            <p:cNvPr id="138" name=""/>
            <p:cNvSpPr txBox="1"/>
            <p:nvPr/>
          </p:nvSpPr>
          <p:spPr>
            <a:xfrm>
              <a:off x="7620120" y="6553080"/>
              <a:ext cx="552240" cy="17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Copyrihgt</a:t>
              </a:r>
              <a:endParaRPr b="0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8305920" y="6553080"/>
              <a:ext cx="22860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LD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8667720" y="6553080"/>
              <a:ext cx="2476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2001</a:t>
              </a:r>
              <a:endParaRPr b="0" lang="en-US" sz="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</p:spTree>
  </p:cSld>
  <p:transition advTm="5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114800" y="3200400"/>
            <a:ext cx="99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Comic Sans MS"/>
              </a:rPr>
              <a:t>v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49" name="dia-wrack1" descr=""/>
          <p:cNvPicPr/>
          <p:nvPr/>
        </p:nvPicPr>
        <p:blipFill>
          <a:blip r:embed="rId1"/>
          <a:stretch/>
        </p:blipFill>
        <p:spPr>
          <a:xfrm>
            <a:off x="2629080" y="1771560"/>
            <a:ext cx="3886200" cy="3314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952880" y="4572000"/>
            <a:ext cx="11430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743200" y="1371600"/>
            <a:ext cx="3809880" cy="2819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Comic Sans MS"/>
              </a:rPr>
              <a:t>Eine Diashow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20120" y="6553080"/>
            <a:ext cx="1295280" cy="171720"/>
            <a:chOff x="7620120" y="6553080"/>
            <a:chExt cx="1295280" cy="171720"/>
          </a:xfrm>
        </p:grpSpPr>
        <p:sp>
          <p:nvSpPr>
            <p:cNvPr id="53" name=""/>
            <p:cNvSpPr txBox="1"/>
            <p:nvPr/>
          </p:nvSpPr>
          <p:spPr>
            <a:xfrm>
              <a:off x="7620120" y="6553080"/>
              <a:ext cx="552240" cy="17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Copyrihgt</a:t>
              </a:r>
              <a:endParaRPr b="0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8305920" y="6553080"/>
              <a:ext cx="22860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LD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8667720" y="6553080"/>
              <a:ext cx="2476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2001</a:t>
              </a:r>
              <a:endParaRPr b="0" lang="en-US" sz="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56" name=""/>
          <p:cNvSpPr txBox="1"/>
          <p:nvPr/>
        </p:nvSpPr>
        <p:spPr>
          <a:xfrm>
            <a:off x="2590920" y="3124080"/>
            <a:ext cx="388620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Comic Sans MS"/>
              </a:rPr>
              <a:t>Lutz Drößle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 advTm="12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LWAGEN2" descr=""/>
          <p:cNvPicPr/>
          <p:nvPr/>
        </p:nvPicPr>
        <p:blipFill>
          <a:blip r:embed="rId1"/>
          <a:stretch/>
        </p:blipFill>
        <p:spPr>
          <a:xfrm>
            <a:off x="9372600" y="4191120"/>
            <a:ext cx="2540160" cy="985680"/>
          </a:xfrm>
          <a:prstGeom prst="rect">
            <a:avLst/>
          </a:prstGeom>
          <a:ln w="0">
            <a:noFill/>
          </a:ln>
          <a:effectLst>
            <a:outerShdw dist="134955" dir="2472880" blurRad="0" rotWithShape="0">
              <a:srgbClr val="000000"/>
            </a:outerShdw>
          </a:effectLst>
        </p:spPr>
      </p:pic>
      <p:sp>
        <p:nvSpPr>
          <p:cNvPr id="58" name=""/>
          <p:cNvSpPr txBox="1"/>
          <p:nvPr/>
        </p:nvSpPr>
        <p:spPr>
          <a:xfrm>
            <a:off x="2057400" y="2057400"/>
            <a:ext cx="4952880" cy="23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52300" dir="836435" blurRad="0" rotWithShape="0">
                    <a:srgbClr val="000000"/>
                  </a:outerShdw>
                </a:effectLst>
                <a:latin typeface="Comic Sans MS"/>
              </a:rPr>
              <a:t>Sardini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52300" dir="836435" blurRad="0" rotWithShape="0">
                  <a:srgbClr val="00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880" y="5638680"/>
            <a:ext cx="326736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64600" dir="674838" blurRad="0" rotWithShape="0">
                    <a:srgbClr val="000000"/>
                  </a:outerShdw>
                </a:effectLst>
                <a:latin typeface="Comic Sans MS"/>
              </a:rPr>
              <a:t>im August 199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64600" dir="674838" blurRad="0" rotWithShape="0">
                  <a:srgbClr val="00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0" name="urlaub-01329" descr=""/>
          <p:cNvPicPr/>
          <p:nvPr/>
        </p:nvPicPr>
        <p:blipFill>
          <a:blip r:embed="rId2"/>
          <a:stretch/>
        </p:blipFill>
        <p:spPr>
          <a:xfrm>
            <a:off x="6934320" y="45720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springfisch" descr=""/>
          <p:cNvPicPr/>
          <p:nvPr/>
        </p:nvPicPr>
        <p:blipFill>
          <a:blip r:embed="rId3"/>
          <a:stretch/>
        </p:blipFill>
        <p:spPr>
          <a:xfrm>
            <a:off x="5638680" y="4876920"/>
            <a:ext cx="3211560" cy="1749240"/>
          </a:xfrm>
          <a:prstGeom prst="rect">
            <a:avLst/>
          </a:prstGeom>
          <a:ln w="0">
            <a:noFill/>
          </a:ln>
        </p:spPr>
      </p:pic>
      <p:pic>
        <p:nvPicPr>
          <p:cNvPr id="62" name="Melonen-Mahlzeit_2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2482920" cy="1655640"/>
          </a:xfrm>
          <a:prstGeom prst="rect">
            <a:avLst/>
          </a:prstGeom>
          <a:ln w="57240">
            <a:solidFill>
              <a:srgbClr val="f3c95f"/>
            </a:solidFill>
            <a:miter/>
          </a:ln>
        </p:spPr>
      </p:pic>
      <p:pic>
        <p:nvPicPr>
          <p:cNvPr id="63" name="Okti_1" descr=""/>
          <p:cNvPicPr/>
          <p:nvPr/>
        </p:nvPicPr>
        <p:blipFill>
          <a:blip r:embed="rId5"/>
          <a:stretch/>
        </p:blipFill>
        <p:spPr>
          <a:xfrm>
            <a:off x="5486400" y="4368960"/>
            <a:ext cx="3429000" cy="2286000"/>
          </a:xfrm>
          <a:prstGeom prst="rect">
            <a:avLst/>
          </a:prstGeom>
          <a:ln w="57240">
            <a:solidFill>
              <a:srgbClr val="f3c95f"/>
            </a:solidFill>
            <a:miter/>
          </a:ln>
        </p:spPr>
      </p:pic>
    </p:spTree>
  </p:cSld>
  <p:transition advTm="18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agliari-Gruppe" descr=""/>
          <p:cNvPicPr/>
          <p:nvPr/>
        </p:nvPicPr>
        <p:blipFill>
          <a:blip r:embed="rId1"/>
          <a:srcRect l="7406" t="0" r="3710" b="0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228600"/>
            <a:ext cx="8305920" cy="640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81185" dir="2321969" blurRad="0" rotWithShape="0">
                    <a:srgbClr val="ffffff"/>
                  </a:outerShdw>
                </a:effectLst>
                <a:latin typeface="Comic Sans MS"/>
              </a:rPr>
              <a:t>Die Reisegruppe</a:t>
            </a:r>
            <a:endParaRPr b="0" lang="en-US" sz="4000" spc="1" strike="noStrike">
              <a:ln w="381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81185" dir="2321969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81185" dir="2321969" blurRad="0" rotWithShape="0">
                    <a:srgbClr val="ffffff"/>
                  </a:outerShdw>
                </a:effectLst>
                <a:latin typeface="Comic Sans MS"/>
              </a:rPr>
              <a:t>,,Spaß"</a:t>
            </a:r>
            <a:endParaRPr b="0" lang="en-US" sz="4000" spc="1" strike="noStrike">
              <a:ln w="381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81185" dir="2321969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81185" dir="2321969" blurRad="0" rotWithShape="0">
                    <a:srgbClr val="ffffff"/>
                  </a:outerShdw>
                </a:effectLst>
                <a:latin typeface="Comic Sans MS"/>
              </a:rPr>
              <a:t>auf ihrer</a:t>
            </a:r>
            <a:endParaRPr b="0" lang="en-US" sz="4000" spc="1" strike="noStrike">
              <a:ln w="381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81185" dir="2321969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81185" dir="2321969" blurRad="0" rotWithShape="0">
                    <a:srgbClr val="ffffff"/>
                  </a:outerShdw>
                </a:effectLst>
                <a:latin typeface="Comic Sans MS"/>
              </a:rPr>
              <a:t>Rundreise</a:t>
            </a:r>
            <a:endParaRPr b="0" lang="en-US" sz="4000" spc="1" strike="noStrike">
              <a:ln w="381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81185" dir="2321969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81185" dir="2321969" blurRad="0" rotWithShape="0">
                    <a:srgbClr val="ffffff"/>
                  </a:outerShdw>
                </a:effectLst>
                <a:latin typeface="Comic Sans MS"/>
              </a:rPr>
              <a:t>durch</a:t>
            </a:r>
            <a:endParaRPr b="0" lang="en-US" sz="4000" spc="1" strike="noStrike">
              <a:ln w="381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81185" dir="2321969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81185" dir="2321969" blurRad="0" rotWithShape="0">
                    <a:srgbClr val="ffffff"/>
                  </a:outerShdw>
                </a:effectLst>
                <a:latin typeface="Comic Sans MS"/>
              </a:rPr>
              <a:t>Sardinien</a:t>
            </a:r>
            <a:endParaRPr b="0" lang="en-US" sz="4000" spc="1" strike="noStrike">
              <a:ln w="381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81185" dir="2321969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2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orre-dela-Finanza_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67" name="Steilkueste_1" descr=""/>
          <p:cNvPicPr/>
          <p:nvPr/>
        </p:nvPicPr>
        <p:blipFill>
          <a:blip r:embed="rId2"/>
          <a:stretch/>
        </p:blipFill>
        <p:spPr>
          <a:xfrm>
            <a:off x="4648320" y="228600"/>
            <a:ext cx="4297320" cy="6445080"/>
          </a:xfrm>
          <a:prstGeom prst="rect">
            <a:avLst/>
          </a:prstGeom>
          <a:ln w="38160">
            <a:solidFill>
              <a:srgbClr val="f3c95f"/>
            </a:solidFill>
            <a:miter/>
          </a:ln>
        </p:spPr>
      </p:pic>
      <p:sp>
        <p:nvSpPr>
          <p:cNvPr id="68" name=""/>
          <p:cNvSpPr txBox="1"/>
          <p:nvPr/>
        </p:nvSpPr>
        <p:spPr>
          <a:xfrm>
            <a:off x="228600" y="457200"/>
            <a:ext cx="8534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73964" dir="3536435" blurRad="0" rotWithShape="0">
                    <a:srgbClr val="ffffff"/>
                  </a:outerShdw>
                </a:effectLst>
                <a:latin typeface="Comic Sans MS"/>
              </a:rPr>
              <a:t>Im Norden von Sardinien     das Torre dela Finanza</a:t>
            </a:r>
            <a:endParaRPr b="1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73964" dir="3536435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9" name="Wachturm-Porto-Torres_1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4216320" cy="6400800"/>
          </a:xfrm>
          <a:prstGeom prst="rect">
            <a:avLst/>
          </a:prstGeom>
          <a:ln w="38160">
            <a:solidFill>
              <a:srgbClr val="f3c95f"/>
            </a:solidFill>
            <a:miter/>
          </a:ln>
        </p:spPr>
      </p:pic>
      <p:sp>
        <p:nvSpPr>
          <p:cNvPr id="70" name=""/>
          <p:cNvSpPr txBox="1"/>
          <p:nvPr/>
        </p:nvSpPr>
        <p:spPr>
          <a:xfrm>
            <a:off x="304920" y="5715000"/>
            <a:ext cx="403848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81185" dir="19278031" blurRad="0" rotWithShape="0">
                    <a:srgbClr val="ffffff"/>
                  </a:outerShdw>
                </a:effectLst>
                <a:latin typeface="Comic Sans MS"/>
              </a:rPr>
              <a:t>Nuraghe - Wachturm</a:t>
            </a:r>
            <a:endParaRPr b="1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80"/>
              </a:solidFill>
              <a:effectLst>
                <a:outerShdw dist="81185" dir="1927803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638680" y="4648320"/>
            <a:ext cx="2743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89604" dir="18900000" blurRad="0" rotWithShape="0">
                    <a:srgbClr val="ffffff"/>
                  </a:outerShdw>
                </a:effectLst>
                <a:latin typeface="Comic Sans MS"/>
              </a:rPr>
              <a:t>Steilküste</a:t>
            </a:r>
            <a:endParaRPr b="1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89604" dir="189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24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Mittag_1" descr=""/>
          <p:cNvPicPr/>
          <p:nvPr/>
        </p:nvPicPr>
        <p:blipFill>
          <a:blip r:embed="rId1"/>
          <a:srcRect l="0" t="0" r="11108" b="0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73" name="Siesta_2" descr=""/>
          <p:cNvPicPr/>
          <p:nvPr/>
        </p:nvPicPr>
        <p:blipFill>
          <a:blip r:embed="rId2"/>
          <a:stretch/>
        </p:blipFill>
        <p:spPr>
          <a:xfrm>
            <a:off x="3505320" y="228600"/>
            <a:ext cx="5413320" cy="3608280"/>
          </a:xfrm>
          <a:prstGeom prst="rect">
            <a:avLst/>
          </a:prstGeom>
          <a:ln w="38160">
            <a:solidFill>
              <a:srgbClr val="f3c95f"/>
            </a:solidFill>
            <a:miter/>
          </a:ln>
        </p:spPr>
      </p:pic>
      <p:pic>
        <p:nvPicPr>
          <p:cNvPr id="74" name="Melonen-Mahlzeit_2" descr=""/>
          <p:cNvPicPr/>
          <p:nvPr/>
        </p:nvPicPr>
        <p:blipFill>
          <a:blip r:embed="rId3"/>
          <a:stretch/>
        </p:blipFill>
        <p:spPr>
          <a:xfrm>
            <a:off x="228600" y="3048120"/>
            <a:ext cx="5410080" cy="3608280"/>
          </a:xfrm>
          <a:prstGeom prst="rect">
            <a:avLst/>
          </a:prstGeom>
          <a:ln w="38160">
            <a:solidFill>
              <a:srgbClr val="f3c95f"/>
            </a:solidFill>
            <a:miter/>
          </a:ln>
        </p:spPr>
      </p:pic>
      <p:sp>
        <p:nvSpPr>
          <p:cNvPr id="75" name=""/>
          <p:cNvSpPr txBox="1"/>
          <p:nvPr/>
        </p:nvSpPr>
        <p:spPr>
          <a:xfrm>
            <a:off x="304920" y="533520"/>
            <a:ext cx="4267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8000"/>
                </a:solidFill>
                <a:effectLst>
                  <a:outerShdw dist="125751" dir="18900000" blurRad="0" rotWithShape="0">
                    <a:srgbClr val="ffffff"/>
                  </a:outerShdw>
                </a:effectLst>
                <a:latin typeface="Comic Sans MS"/>
              </a:rPr>
              <a:t>Siesta . . .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008000"/>
              </a:solidFill>
              <a:effectLst>
                <a:outerShdw dist="125751" dir="189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6" name=""/>
          <p:cNvSpPr txBox="1"/>
          <p:nvPr/>
        </p:nvSpPr>
        <p:spPr>
          <a:xfrm rot="343800">
            <a:off x="452520" y="2893680"/>
            <a:ext cx="4876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00"/>
                  </a:outerShdw>
                </a:effectLst>
                <a:latin typeface="Comic Sans MS"/>
              </a:rPr>
              <a:t>Melonen-Mahlzeit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0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8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Elefant_2" descr=""/>
          <p:cNvPicPr/>
          <p:nvPr/>
        </p:nvPicPr>
        <p:blipFill>
          <a:blip r:embed="rId1"/>
          <a:srcRect l="5188" t="0" r="592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762120" y="5105520"/>
            <a:ext cx="7619760" cy="14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daf13"/>
                </a:solidFill>
                <a:effectLst>
                  <a:outerShdw dist="99192" dir="19218056" blurRad="0" rotWithShape="0">
                    <a:srgbClr val="ffffff"/>
                  </a:outerShdw>
                </a:effectLst>
                <a:latin typeface="Comic Sans MS"/>
              </a:rPr>
              <a:t>der Elefantenfelse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edaf13"/>
              </a:solidFill>
              <a:effectLst>
                <a:outerShdw dist="99192" dir="19218056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9" name="Geisterstadt_2" descr=""/>
          <p:cNvPicPr/>
          <p:nvPr/>
        </p:nvPicPr>
        <p:blipFill>
          <a:blip r:embed="rId2"/>
          <a:srcRect l="11108" t="0" r="2170" b="24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 rot="396000">
            <a:off x="304560" y="0"/>
            <a:ext cx="853272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1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996633"/>
                </a:solidFill>
                <a:effectLst>
                  <a:outerShdw dist="125751" dir="2700000" blurRad="0" rotWithShape="0">
                    <a:srgbClr val="000000"/>
                  </a:outerShdw>
                </a:effectLst>
                <a:latin typeface="Comic Sans MS"/>
              </a:rPr>
              <a:t>Agentiera - Geisterstadt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996633"/>
              </a:solidFill>
              <a:effectLst>
                <a:outerShdw dist="125751" dir="2700000" blurRad="0" rotWithShape="0">
                  <a:srgbClr val="00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996633"/>
                </a:solidFill>
                <a:effectLst>
                  <a:outerShdw dist="125751" dir="2700000" blurRad="0" rotWithShape="0">
                    <a:srgbClr val="000000"/>
                  </a:outerShdw>
                </a:effectLst>
                <a:latin typeface="Comic Sans MS"/>
              </a:rPr>
              <a:t>altes Silbererz-Bergwerk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996633"/>
              </a:solidFill>
              <a:effectLst>
                <a:outerShdw dist="125751" dir="2700000" blurRad="0" rotWithShape="0">
                  <a:srgbClr val="00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1" name="Rote-Felsen-Abratax_2" descr=""/>
          <p:cNvPicPr/>
          <p:nvPr/>
        </p:nvPicPr>
        <p:blipFill>
          <a:blip r:embed="rId3"/>
          <a:srcRect l="736" t="0" r="10380" b="0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609480" y="380880"/>
            <a:ext cx="80010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00"/>
                  </a:outerShdw>
                </a:effectLst>
                <a:latin typeface="Comic Sans MS"/>
              </a:rPr>
              <a:t>Abratax - die Roten Felsen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0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2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ropfstein-Boot_1" descr=""/>
          <p:cNvPicPr/>
          <p:nvPr/>
        </p:nvPicPr>
        <p:blipFill>
          <a:blip r:embed="rId1"/>
          <a:srcRect l="3707" t="0" r="741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80880" y="2286000"/>
            <a:ext cx="83250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05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Grotta di Nettuno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665 Stufen bis zum Eingang am Meer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5" name="Tropfstein-Gruppe_1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8305920" cy="5535360"/>
          </a:xfrm>
          <a:prstGeom prst="rect">
            <a:avLst/>
          </a:prstGeom>
          <a:ln w="38160">
            <a:solidFill>
              <a:srgbClr val="f3c95f"/>
            </a:solidFill>
            <a:miter/>
          </a:ln>
        </p:spPr>
      </p:pic>
      <p:sp>
        <p:nvSpPr>
          <p:cNvPr id="86" name=""/>
          <p:cNvSpPr txBox="1"/>
          <p:nvPr/>
        </p:nvSpPr>
        <p:spPr>
          <a:xfrm>
            <a:off x="685800" y="1143000"/>
            <a:ext cx="295272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cc6600"/>
                </a:solidFill>
                <a:effectLst>
                  <a:outerShdw dist="63504" dir="19383909" blurRad="0" rotWithShape="0">
                    <a:srgbClr val="ffffff"/>
                  </a:outerShdw>
                </a:effectLst>
                <a:latin typeface="Comic Sans MS"/>
              </a:rPr>
              <a:t>Stalachnite  +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cc6600"/>
              </a:solidFill>
              <a:effectLst>
                <a:outerShdw dist="63504" dir="19383909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62520" y="1219320"/>
            <a:ext cx="273348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cc6600"/>
                </a:solidFill>
                <a:effectLst>
                  <a:outerShdw dist="53966" dir="18900000" blurRad="0" rotWithShape="0">
                    <a:srgbClr val="ffffff"/>
                  </a:outerShdw>
                </a:effectLst>
                <a:latin typeface="Comic Sans MS"/>
              </a:rPr>
              <a:t>Stalachite  =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cc6600"/>
              </a:solidFill>
              <a:effectLst>
                <a:outerShdw dist="53966" dir="189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715000" y="2286000"/>
            <a:ext cx="258120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cc6600"/>
                </a:solidFill>
                <a:effectLst>
                  <a:outerShdw dist="45929" dir="19571123" blurRad="0" rotWithShape="0">
                    <a:srgbClr val="ffffff"/>
                  </a:outerShdw>
                </a:effectLst>
                <a:latin typeface="Comic Sans MS"/>
              </a:rPr>
              <a:t>Stalachnate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cc6600"/>
              </a:solidFill>
              <a:effectLst>
                <a:outerShdw dist="45929" dir="19571123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62520" y="5486400"/>
            <a:ext cx="4429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996633"/>
                </a:solidFill>
                <a:effectLst>
                  <a:outerShdw dist="125751" dir="18900000" blurRad="0" rotWithShape="0">
                    <a:srgbClr val="ffffff"/>
                  </a:outerShdw>
                </a:effectLst>
                <a:latin typeface="Comic Sans MS"/>
              </a:rPr>
              <a:t>Tropfsteinhöhle</a:t>
            </a:r>
            <a:endParaRPr b="1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996633"/>
              </a:solidFill>
              <a:effectLst>
                <a:outerShdw dist="125751" dir="189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2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Salzsee-Stagno-di-Saline_3" descr=""/>
          <p:cNvPicPr/>
          <p:nvPr/>
        </p:nvPicPr>
        <p:blipFill>
          <a:blip r:embed="rId1"/>
          <a:srcRect l="2224" t="0" r="8897" b="0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838080" y="5181480"/>
            <a:ext cx="746784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8080"/>
                </a:solidFill>
                <a:effectLst>
                  <a:outerShdw dist="99192" dir="19218056" blurRad="0" rotWithShape="0">
                    <a:srgbClr val="ffffff"/>
                  </a:outerShdw>
                </a:effectLst>
                <a:latin typeface="Comic Sans MS"/>
              </a:rPr>
              <a:t>Stagno di Saline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808080"/>
              </a:solidFill>
              <a:effectLst>
                <a:outerShdw dist="99192" dir="19218056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2" name="Salzsee-Stagno-di-Saline_1" descr=""/>
          <p:cNvPicPr/>
          <p:nvPr/>
        </p:nvPicPr>
        <p:blipFill>
          <a:blip r:embed="rId2"/>
          <a:srcRect l="0" t="0" r="11737" b="67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09480" y="228600"/>
            <a:ext cx="7162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8000"/>
                </a:solidFill>
                <a:effectLst>
                  <a:outerShdw dist="63504" dir="19383909" blurRad="0" rotWithShape="0">
                    <a:srgbClr val="ffffff"/>
                  </a:outerShdw>
                </a:effectLst>
                <a:latin typeface="Comic Sans MS"/>
              </a:rPr>
              <a:t>ein ausgetrockneter Salzsee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808000"/>
              </a:solidFill>
              <a:effectLst>
                <a:outerShdw dist="63504" dir="19383909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257800" y="5791320"/>
            <a:ext cx="350532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8000"/>
                </a:solidFill>
                <a:effectLst>
                  <a:outerShdw dist="81185" dir="19278031" blurRad="0" rotWithShape="0">
                    <a:srgbClr val="ffffff"/>
                  </a:outerShdw>
                </a:effectLst>
                <a:latin typeface="Comic Sans MS"/>
              </a:rPr>
              <a:t>in San Piramo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808000"/>
              </a:solidFill>
              <a:effectLst>
                <a:outerShdw dist="81185" dir="1927803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8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20:34:27Z</dcterms:created>
  <dc:creator>Lutz Drößler</dc:creator>
  <dc:description/>
  <dc:language>en-US</dc:language>
  <cp:lastModifiedBy>Lutz Drößler</cp:lastModifiedBy>
  <dcterms:modified xsi:type="dcterms:W3CDTF">2001-12-05T22:52:32Z</dcterms:modified>
  <cp:revision>30</cp:revision>
  <dc:subject/>
  <dc:title>Kein Folientitel</dc:title>
</cp:coreProperties>
</file>