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7CE-8C6E-4702-BAEA-2DF7F06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6E5-577D-4F34-98B2-8002E3F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479-31F3-41C8-96CF-3AF816E6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E67-A0B1-483A-B7FA-7D99319C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87D-7974-4924-8515-8C014E1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734-737A-48BB-A13B-862F4C2A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DE6-1918-4B7E-AB0E-BC809851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ADA-F961-4898-B44F-D2B96C38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D09-F2DD-4D22-AF4E-2218BB1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D53-306D-4CD7-B16C-F955D5D6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FAE-3A61-4587-90FE-21D4244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45F-FE2E-47D0-92BF-06DA41D9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A1F-9862-487A-988A-D7EDE713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5.jpeg"/><Relationship Id="rId8" Type="http://schemas.openxmlformats.org/officeDocument/2006/relationships/image" Target="../media/image7.wmf"/><Relationship Id="rId9" Type="http://schemas.openxmlformats.org/officeDocument/2006/relationships/image" Target="../media/image5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80200">
            <a:off x="0" y="60912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chottl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429000"/>
            <a:ext cx="150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u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 rot="95400">
            <a:off x="228240" y="4648320"/>
            <a:ext cx="8232840" cy="19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die Orkney-Insel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67480" y="5715000"/>
            <a:ext cx="12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998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2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1449360"/>
            <a:ext cx="1871640" cy="1808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2920" y="3735360"/>
            <a:ext cx="1590480" cy="1733400"/>
          </a:xfrm>
          <a:prstGeom prst="rect">
            <a:avLst/>
          </a:prstGeom>
          <a:ln w="0">
            <a:noFill/>
          </a:ln>
          <a:effectLst>
            <a:outerShdw dist="102388" dir="1783193" blurRad="0" rotWithShape="0">
              <a:srgbClr val="b2b2b2"/>
            </a:outerShdw>
          </a:effectLst>
        </p:spPr>
      </p:pic>
      <p:sp>
        <p:nvSpPr>
          <p:cNvPr id="47" name=""/>
          <p:cNvSpPr/>
          <p:nvPr/>
        </p:nvSpPr>
        <p:spPr>
          <a:xfrm>
            <a:off x="304920" y="31258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636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143000" y="45864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44008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21437400">
            <a:off x="3809880" y="304920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b2b2b2"/>
                  </a:outerShdw>
                </a:effectLst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3183908" blurRad="0" rotWithShape="0">
                    <a:srgbClr val="b2b2b2"/>
                  </a:outerShdw>
                </a:effectLst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3183908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 rot="21450000">
            <a:off x="3504960" y="31258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1185" dir="3078030" blurRad="0" rotWithShape="0">
                    <a:srgbClr val="b2b2b2"/>
                  </a:outerShdw>
                </a:effectLst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1185" dir="307803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 rot="500400">
            <a:off x="5977080" y="5300640"/>
            <a:ext cx="2819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63504" dir="2216091" blurRad="0" rotWithShape="0">
                    <a:srgbClr val="ffffff"/>
                  </a:outerShdw>
                </a:effectLst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63504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14400" y="3506760"/>
            <a:ext cx="1219320" cy="104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602136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617364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b2b2b2"/>
                  </a:outerShdw>
                </a:effectLst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" name="">
            <a:hlinkClick r:id="rId10"/>
          </p:cNvPr>
          <p:cNvSpPr/>
          <p:nvPr/>
        </p:nvSpPr>
        <p:spPr>
          <a:xfrm>
            <a:off x="2666880" y="4573440"/>
            <a:ext cx="3886200" cy="8384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19520" y="480204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b2b2b2"/>
                  </a:outerShdw>
                </a:effectLst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 rot="439800">
            <a:off x="5018040" y="-533160"/>
            <a:ext cx="37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1863564" blurRad="0" rotWithShape="0">
                    <a:srgbClr val="b2b2b2"/>
                  </a:outerShdw>
                </a:effectLst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1863564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1863564" blurRad="0" rotWithShape="0">
                    <a:srgbClr val="b2b2b2"/>
                  </a:outerShdw>
                </a:effectLst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1863564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1863564" blurRad="0" rotWithShape="0">
                    <a:srgbClr val="b2b2b2"/>
                  </a:outerShdw>
                </a:effectLst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1863564" blurRad="0" rotWithShape="0">
                  <a:srgbClr val="b2b2b2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22:05:50Z</dcterms:created>
  <dc:creator>Lutz</dc:creator>
  <dc:description/>
  <dc:language>en-US</dc:language>
  <cp:lastModifiedBy>Lutz</cp:lastModifiedBy>
  <dcterms:modified xsi:type="dcterms:W3CDTF">2003-01-29T22:33:28Z</dcterms:modified>
  <cp:revision>2</cp:revision>
  <dc:subject/>
  <dc:title>PowerPoint-Präsentation</dc:title>
</cp:coreProperties>
</file>